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B4FC-510B-47C0-8914-88F51935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EC8-4F66-482B-8E2D-52E98EB2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CD9F-382E-41FC-8F41-F6FBA4EE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C4A-F46B-4B8E-BFB3-03ACB08A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77F0-3281-458B-8219-A6DC9081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BDF-EEDB-484D-A242-B7535BD3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BA69-7E89-48C1-8CD3-464E3213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AB2A-E127-4BFB-A957-80C40714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341-8AC5-4132-98EE-DE25E9F9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D9A-6773-4815-B897-99E1665C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57F-05A7-47D5-9592-60FFD86A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3D9-0A9F-400D-9CBC-916325CF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0BAE-44F5-408A-A8F2-6421F1C9C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esprimere la numerosità di un insieme di oggetti superiore alla quantità di pasta ospitabile su di uno stecco si deve utilizzare più di un’asta dell’ab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20500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l sistem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u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393372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2200" y="4005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338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960" y="40338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6640" y="4019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8280" y="40338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5160" y="4019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391968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3990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019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01680" y="4019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87360" y="4005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59000" y="4019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15880" y="4005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360" y="3919680"/>
            <a:ext cx="50508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3990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7080" y="4019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22760" y="4019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440" y="4005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79720" y="4019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36960" y="4005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06400" y="3919680"/>
            <a:ext cx="50508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78040" y="3990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51120" y="4019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36800" y="4019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22480" y="4005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93760" y="4019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51000" y="4005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97240" y="390528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68520" y="39765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41600" y="4005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27280" y="4005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12960" y="3990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84600" y="4005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1480" y="3990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3640" y="393372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87640" y="414972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4005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32360" y="4221000"/>
            <a:ext cx="2664000" cy="216000"/>
          </a:xfrm>
          <a:prstGeom prst="parallelogram">
            <a:avLst>
              <a:gd name="adj" fmla="val 30833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531280" y="390528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602560" y="39765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675640" y="4005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61320" y="4005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847000" y="3990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918640" y="4005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975880" y="3990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85240" y="3919680"/>
            <a:ext cx="0" cy="43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69240" y="4135320"/>
            <a:ext cx="43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20637600">
            <a:off x="6846480" y="4319640"/>
            <a:ext cx="798480" cy="187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32360" y="4437000"/>
            <a:ext cx="1944720" cy="216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59640" y="2924280"/>
            <a:ext cx="0" cy="144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2924280"/>
            <a:ext cx="0" cy="141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2924280"/>
            <a:ext cx="0" cy="141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16640" y="397656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88280" y="40482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61000" y="4076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7040" y="4076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32720" y="40622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04000" y="4076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61240" y="40622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16640" y="363060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88280" y="37018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61000" y="3730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47040" y="3730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32720" y="37162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04000" y="3730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61240" y="37162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16640" y="327168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8280" y="33433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61000" y="33717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47040" y="33717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2720" y="3357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33717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61240" y="3357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15200" y="291132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86480" y="2982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9560" y="3011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45240" y="3011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0920" y="2997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2560" y="3011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9440" y="2997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6165720"/>
            <a:ext cx="2663640" cy="216000"/>
          </a:xfrm>
          <a:prstGeom prst="parallelogram">
            <a:avLst>
              <a:gd name="adj" fmla="val 30829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637600">
            <a:off x="3246120" y="6264360"/>
            <a:ext cx="798480" cy="187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6381720"/>
            <a:ext cx="1944720" cy="216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4869000"/>
            <a:ext cx="0" cy="141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30480" y="4870440"/>
            <a:ext cx="0" cy="141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6093000"/>
            <a:ext cx="936360" cy="360360"/>
          </a:xfrm>
          <a:prstGeom prst="rightArrow">
            <a:avLst>
              <a:gd name="adj1" fmla="val 50000"/>
              <a:gd name="adj2" fmla="val 649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11560" y="586440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82840" y="5935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55920" y="59641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41600" y="59641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5950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98920" y="59641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55800" y="5950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6000" y="486900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3640" y="5157720"/>
            <a:ext cx="432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 corrisponde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  +  1   = 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4941720"/>
            <a:ext cx="4859280" cy="19162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 si leg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quattro più uno ugual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zero con il riporto di u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33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o zero consente la fedele rappresentazione di quanto avviene sull’aba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213000"/>
            <a:ext cx="2663640" cy="216000"/>
          </a:xfrm>
          <a:prstGeom prst="parallelogram">
            <a:avLst>
              <a:gd name="adj" fmla="val 30829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637600">
            <a:off x="2165040" y="3311640"/>
            <a:ext cx="798480" cy="187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3429000"/>
            <a:ext cx="1944720" cy="216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69840" y="1916280"/>
            <a:ext cx="0" cy="141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49400" y="1917720"/>
            <a:ext cx="0" cy="141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30480" y="291132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01760" y="2982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74840" y="3011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60520" y="3011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46200" y="2997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17840" y="3011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4720" y="2997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4920" y="1916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80000" y="3227400"/>
            <a:ext cx="2664000" cy="216000"/>
          </a:xfrm>
          <a:prstGeom prst="parallelogram">
            <a:avLst>
              <a:gd name="adj" fmla="val 30833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0637600">
            <a:off x="7494120" y="3325680"/>
            <a:ext cx="798480" cy="1875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80000" y="3443400"/>
            <a:ext cx="1944720" cy="2156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38880" y="1916280"/>
            <a:ext cx="0" cy="141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59560" y="292572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30840" y="2997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03920" y="30258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89600" y="30258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5640" y="3011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46920" y="30258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04160" y="3011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04000" y="193032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311292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1845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32130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81320" y="32130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67360" y="3198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38640" y="32130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95880" y="3198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05240" y="312732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89240" y="334332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31989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61120" y="2927520"/>
            <a:ext cx="50508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2760" y="29988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05840" y="30272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30272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77200" y="30132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48480" y="30272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05720" y="30132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05560" y="193212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42609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’unità aggiunta non influenza il segnale che si trova in seconda posi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87640" y="5805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10  +  1  = 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9480" y="3718080"/>
            <a:ext cx="2663640" cy="215640"/>
          </a:xfrm>
          <a:prstGeom prst="parallelogram">
            <a:avLst>
              <a:gd name="adj" fmla="val 30880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20637600">
            <a:off x="3063600" y="3816360"/>
            <a:ext cx="798480" cy="187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9480" y="3933720"/>
            <a:ext cx="1944720" cy="216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8000" y="2781360"/>
            <a:ext cx="0" cy="1038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8680" y="3416400"/>
            <a:ext cx="50508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00320" y="3487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73400" y="3516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59080" y="3516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44760" y="3502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16040" y="3516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73280" y="3502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270828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30600" y="341784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01880" y="3489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74960" y="35179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60640" y="35179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6320" y="35035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17960" y="35179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74840" y="35035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974680" y="2781360"/>
            <a:ext cx="12600" cy="722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0"/>
            <a:ext cx="83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Il significato di una cifra dipende, oltre che dal simbolo che la rappresenta, anche dalla posizione che essa occupa all’interno del nu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03640" y="3141720"/>
            <a:ext cx="22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68360" y="0"/>
            <a:ext cx="83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Il significato di una cifra dipende, oltre che dal simbolo che la rappresenta, anche dalla posizione che essa occupa all’interno del nu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876920"/>
            <a:ext cx="9144000" cy="19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I sistemi di numerazione che possiedono tali caratteristiche si dico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POSIZION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249228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e singole cifre che compongono un numero esprimono quantità utilizzando unità di misura d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905200" y="1541520"/>
            <a:ext cx="2663640" cy="216000"/>
          </a:xfrm>
          <a:prstGeom prst="parallelogram">
            <a:avLst>
              <a:gd name="adj" fmla="val 30829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0637600">
            <a:off x="4819320" y="1639800"/>
            <a:ext cx="798480" cy="1875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05200" y="1757520"/>
            <a:ext cx="1944720" cy="2156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60880" y="29196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86320" y="124128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57600" y="13129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30680" y="13413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13413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2040" y="13273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73680" y="13413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30920" y="13273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30760" y="24624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0" y="3600360"/>
            <a:ext cx="2664000" cy="216000"/>
          </a:xfrm>
          <a:prstGeom prst="parallelogram">
            <a:avLst>
              <a:gd name="adj" fmla="val 30833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20637600">
            <a:off x="1949040" y="3699000"/>
            <a:ext cx="798480" cy="187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0" y="3816360"/>
            <a:ext cx="1944720" cy="216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0200" y="2303640"/>
            <a:ext cx="1800" cy="1369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835280" y="2305080"/>
            <a:ext cx="25200" cy="136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3600360"/>
            <a:ext cx="2663640" cy="216000"/>
          </a:xfrm>
          <a:prstGeom prst="parallelogram">
            <a:avLst>
              <a:gd name="adj" fmla="val 30829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20637600">
            <a:off x="5117760" y="3699000"/>
            <a:ext cx="798480" cy="187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3640" y="3816360"/>
            <a:ext cx="1944720" cy="216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2289240"/>
            <a:ext cx="0" cy="141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76720" y="2305080"/>
            <a:ext cx="0" cy="136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23040" y="3600360"/>
            <a:ext cx="2663640" cy="216000"/>
          </a:xfrm>
          <a:prstGeom prst="parallelogram">
            <a:avLst>
              <a:gd name="adj" fmla="val 30829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20637600">
            <a:off x="8237160" y="3699000"/>
            <a:ext cx="798480" cy="187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23040" y="3816360"/>
            <a:ext cx="1944720" cy="216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81920" y="2289240"/>
            <a:ext cx="0" cy="141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47040" y="2303640"/>
            <a:ext cx="0" cy="1369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04160" y="330048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75440" y="33717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48520" y="34005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134200" y="34005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220240" y="33861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291520" y="34005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48760" y="33861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48600" y="23050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46480" y="169920"/>
            <a:ext cx="0" cy="144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03840" y="122220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75120" y="12938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48200" y="13222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33880" y="13222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13082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90840" y="13222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48080" y="13082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03840" y="87624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75120" y="9478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48200" y="9763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33880" y="9763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9560" y="9619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90840" y="9763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48080" y="9619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03840" y="51768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75120" y="6206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48200" y="617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33880" y="617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9560" y="603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90840" y="6174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48080" y="603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02040" y="15732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73680" y="2286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46400" y="2570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32440" y="2570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18120" y="243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9400" y="2570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46640" y="243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19560" y="121428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90840" y="12859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63920" y="13143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49600" y="13143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35280" y="13003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06920" y="13143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63800" y="13003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17760" y="853920"/>
            <a:ext cx="50508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89400" y="9255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62480" y="9540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48160" y="9540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33840" y="939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05120" y="9540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62360" y="939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17760" y="496800"/>
            <a:ext cx="50508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9400" y="5684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62480" y="5968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48160" y="5968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33840" y="5824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05120" y="5968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62360" y="5824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64000" y="260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32000" y="33066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32000" y="2960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32000" y="26337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30200" y="2241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6440" y="322740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7720" y="3298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0800" y="3327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06480" y="3327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92160" y="3313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63800" y="33274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20680" y="3313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74640" y="286704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46280" y="29383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19000" y="29671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05040" y="29671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952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2000" y="29671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19240" y="29527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4640" y="250992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46280" y="25812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9000" y="2610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05040" y="2610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25956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2000" y="26100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19240" y="25956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20880" y="22734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27720" y="234000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13320" y="2217600"/>
            <a:ext cx="0" cy="144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70320" y="327024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341960" y="334152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414680" y="33703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00720" y="33703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86400" y="33559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57680" y="33703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14920" y="33559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70320" y="2924280"/>
            <a:ext cx="504720" cy="4316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41960" y="29955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14680" y="3024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00720" y="3024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86400" y="3009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57680" y="30243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14920" y="300996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70320" y="256536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41960" y="26686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14680" y="26654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00720" y="26654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86400" y="26510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57680" y="26654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714920" y="265104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68880" y="2205000"/>
            <a:ext cx="504720" cy="4320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340160" y="227664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413240" y="2305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98920" y="2305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84600" y="2290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56240" y="230508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713120" y="22906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60720" y="3384720"/>
            <a:ext cx="0" cy="43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44720" y="360036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56360" y="331308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0360" y="352908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00720" y="69228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4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5280" y="422100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00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41640" y="436572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726000" y="4581360"/>
            <a:ext cx="43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723000" y="436392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07000" y="457992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0" y="418932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883640" y="4189320"/>
            <a:ext cx="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4000" y="4221000"/>
            <a:ext cx="8351640" cy="792360"/>
          </a:xfrm>
          <a:prstGeom prst="rect">
            <a:avLst/>
          </a:prstGeom>
          <a:noFill/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4000" y="5084640"/>
            <a:ext cx="8351640" cy="792360"/>
          </a:xfrm>
          <a:prstGeom prst="rect">
            <a:avLst/>
          </a:prstGeom>
          <a:noFill/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4000" y="5950080"/>
            <a:ext cx="8351640" cy="792000"/>
          </a:xfrm>
          <a:prstGeom prst="rect">
            <a:avLst/>
          </a:prstGeom>
          <a:noFill/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5280" y="508464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 x 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24360" y="5229360"/>
            <a:ext cx="0" cy="43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708360" y="544500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11640" y="501336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 x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730920" y="525312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515280" y="5468760"/>
            <a:ext cx="43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883640" y="5013360"/>
            <a:ext cx="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900920" y="58849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96720" y="5948280"/>
            <a:ext cx="381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 x 10 x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24360" y="608472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08360" y="630072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13080" y="584352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 x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32720" y="608328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16720" y="6299280"/>
            <a:ext cx="43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4206960"/>
            <a:ext cx="9144000" cy="266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l  “10”, che consente l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ostamento delle cifre nell’amb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i numeri, è la base di tut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 sistemi di numerazione posizion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44360" y="17604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Il significato di  “10”, però, varia al variare della quantità di simboli posseduta dal sistema di numer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780000" y="2060640"/>
            <a:ext cx="143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33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93372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Sistema a due simboli [binario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68360" y="5867280"/>
            <a:ext cx="41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Sistema a dieci simboli [decimal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45080" y="3995640"/>
            <a:ext cx="45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Sistema a cinque simboli    [quinario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3417000">
            <a:off x="2664000" y="2599920"/>
            <a:ext cx="863280" cy="936720"/>
          </a:xfrm>
          <a:prstGeom prst="downArrow">
            <a:avLst>
              <a:gd name="adj1" fmla="val 50000"/>
              <a:gd name="adj2" fmla="val 27127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8540000">
            <a:off x="5040000" y="2671200"/>
            <a:ext cx="863640" cy="936720"/>
          </a:xfrm>
          <a:prstGeom prst="downArrow">
            <a:avLst>
              <a:gd name="adj1" fmla="val 50000"/>
              <a:gd name="adj2" fmla="val 27115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51280" y="2997360"/>
            <a:ext cx="863640" cy="2303280"/>
          </a:xfrm>
          <a:prstGeom prst="downArrow">
            <a:avLst>
              <a:gd name="adj1" fmla="val 50000"/>
              <a:gd name="adj2" fmla="val 66674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47640" y="3429000"/>
            <a:ext cx="432000" cy="43164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052720" y="3429000"/>
            <a:ext cx="431640" cy="43164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357336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357336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915240" y="358128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35800" y="358128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972560" y="355752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40040" y="543708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444760" y="543708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987640" y="5445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08200" y="5445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044960" y="542124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603680" y="542124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108400" y="542124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51640" y="542916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542916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8600" y="54054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803160" y="36360"/>
            <a:ext cx="72741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la lettura del pensier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409" name=""/>
          <p:cNvSpPr/>
          <p:nvPr/>
        </p:nvSpPr>
        <p:spPr>
          <a:xfrm>
            <a:off x="612720" y="1700280"/>
            <a:ext cx="878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ate scrivere ad un vostro amico, su un foglio di carta, un numero di due cif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2720" y="2924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ategli sommare 7 al numero che ha scri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2720" y="365292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iedetegli di moltiplicare il risultato p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4800" y="4363920"/>
            <a:ext cx="792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tegli di sommare il numero che ha pensato al risul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-15840" y="4444920"/>
            <a:ext cx="33984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-15840" y="3740040"/>
            <a:ext cx="33984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2995560"/>
            <a:ext cx="33984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1844640"/>
            <a:ext cx="33984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0000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9280" y="5702400"/>
            <a:ext cx="907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tevi dire il risultato: sottraete da questo 63 e otterrete il numero pensato moltiplicato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-108000" y="189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)   Controllate la validità del proced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981000"/>
            <a:ext cx="83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dividuate il meccanismo su cui si fonda il gio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-36360" y="10540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920" y="3068640"/>
            <a:ext cx="860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Annotate e descrivete puntualmente  tutte le fasi dell’indagine sul vostro quade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1280" y="5546880"/>
            <a:ext cx="75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L’abaco potrebbe esservi utile per la rice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8:13:07Z</dcterms:created>
  <dc:creator>enrico</dc:creator>
  <dc:description/>
  <dc:language>en-US</dc:language>
  <cp:lastModifiedBy>enrico</cp:lastModifiedBy>
  <dcterms:modified xsi:type="dcterms:W3CDTF">2008-04-14T07:59:15Z</dcterms:modified>
  <cp:revision>4</cp:revision>
  <dc:subject/>
  <dc:title>Diapositiva 1</dc:title>
</cp:coreProperties>
</file>