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539D-8BEA-4E99-A57D-C60D38B12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A2BA-2CF6-4B0C-8311-C35E5E39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BF41-FCFD-47E2-B8E5-CA0FA5C04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7989-052F-4C12-AF35-C1FD93021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B248-B1EE-4794-9CD5-639779FB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EE0D-4BA5-46E7-897A-46F03E58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A399-1C2F-4202-9EF3-17118A03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F58A-AD42-45E6-B61E-4F36C910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3BBE-7E3A-45D1-84F4-11904A5C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747B-DC4E-41FF-8ACC-A79C3087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9C8A-E025-4049-A7CE-538ABB16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51FD-430B-455C-AAA0-650E10DA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A5AE-80EA-4052-B457-948D645A1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3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Le regole relative alle operazioni aritmetiche, imparate nella scuola elementare ed applicate al sistema di numerazione quinario, hanno validità in tutti i sistemi di numerazione posizion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508640"/>
            <a:ext cx="88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Ripeteremo oggi il conteggio della numerosità della classe con l’introduzione di due varia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333360"/>
            <a:ext cx="4608360" cy="1224000"/>
          </a:xfrm>
          <a:prstGeom prst="rect">
            <a:avLst/>
          </a:prstGeom>
          <a:solidFill>
            <a:srgbClr val="800000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IMA VARI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2133720"/>
            <a:ext cx="84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Adotteremo il sistema di numerazione binario, che utilizza solamente i numeri zero e u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422100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La relativa tabella somma è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80000" y="4948200"/>
            <a:ext cx="3384720" cy="1655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15280" y="4948200"/>
            <a:ext cx="0" cy="165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80000" y="5451480"/>
            <a:ext cx="338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80000" y="606888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740720" y="494820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48360" y="49006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6000" y="602784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32520" y="54594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96000" y="54738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099280" y="49006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16680" y="59878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115480" y="5506920"/>
            <a:ext cx="5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964640" y="6019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41880" y="505296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5195880"/>
            <a:ext cx="36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13413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OSSERVIA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35640" y="380880"/>
            <a:ext cx="3384360" cy="1656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70560" y="380880"/>
            <a:ext cx="0" cy="165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35640" y="884160"/>
            <a:ext cx="3384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35640" y="150192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96360" y="38088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04000" y="333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651640" y="1397160"/>
            <a:ext cx="5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88160" y="8920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51640" y="90648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954920" y="333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72320" y="142092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970760" y="9399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97520" y="485640"/>
            <a:ext cx="0" cy="28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22920" y="628560"/>
            <a:ext cx="36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813800" y="14288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2349360"/>
            <a:ext cx="860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Se a una cifra binaria si somma uno, questa assume l’altro valore del sistema e, eventualmente, influenza la cifra d’ordine superi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4941720"/>
            <a:ext cx="8893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0   +   1   =  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1   +   1   =   0    con il riporto di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9200" y="4900680"/>
            <a:ext cx="8964720" cy="180000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79280" y="189000"/>
            <a:ext cx="5112000" cy="1224000"/>
          </a:xfrm>
          <a:prstGeom prst="rect">
            <a:avLst/>
          </a:prstGeom>
          <a:solidFill>
            <a:srgbClr val="800000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ECONDA VARI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37080" y="17874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Sostituiremo l’abaco con un altro dispositivo di calco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3429000"/>
            <a:ext cx="3816360" cy="262080"/>
          </a:xfrm>
          <a:prstGeom prst="parallelogram">
            <a:avLst>
              <a:gd name="adj" fmla="val 36404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0637600">
            <a:off x="3421080" y="3574800"/>
            <a:ext cx="942840" cy="1969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3691080"/>
            <a:ext cx="2952720" cy="2426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68440" y="2178000"/>
            <a:ext cx="0" cy="141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19640" y="2179800"/>
            <a:ext cx="0" cy="1412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29080" y="3173400"/>
            <a:ext cx="50472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00360" y="324468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73440" y="32734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59120" y="32734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44800" y="32590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16080" y="32734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73320" y="32590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73520" y="217800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3116160"/>
            <a:ext cx="50472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16120" y="32194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89200" y="324792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74880" y="323208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92240" y="320184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63880" y="32162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20760" y="320184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39760" y="3116160"/>
            <a:ext cx="50472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11400" y="31878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84120" y="32162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70160" y="32162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55840" y="320184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7120" y="32162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84360" y="320184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402920" y="2133720"/>
            <a:ext cx="9720" cy="107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08000" y="2160720"/>
            <a:ext cx="0" cy="10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12920" y="4356000"/>
            <a:ext cx="7629480" cy="2382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57120" y="4268880"/>
            <a:ext cx="7777080" cy="246384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24000" y="3187800"/>
            <a:ext cx="316728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36360" y="-1000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Rego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67400" y="31680"/>
            <a:ext cx="43923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Per il primo a des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4920" y="811080"/>
            <a:ext cx="649440" cy="649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90920" y="1460520"/>
            <a:ext cx="216000" cy="358920"/>
          </a:xfrm>
          <a:prstGeom prst="downArrow">
            <a:avLst>
              <a:gd name="adj1" fmla="val 50000"/>
              <a:gd name="adj2" fmla="val 4154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90920" y="2579760"/>
            <a:ext cx="216000" cy="358560"/>
          </a:xfrm>
          <a:prstGeom prst="downArrow">
            <a:avLst>
              <a:gd name="adj1" fmla="val 50000"/>
              <a:gd name="adj2" fmla="val 41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32520" y="3284640"/>
            <a:ext cx="215640" cy="358560"/>
          </a:xfrm>
          <a:prstGeom prst="downArrow">
            <a:avLst>
              <a:gd name="adj1" fmla="val 50000"/>
              <a:gd name="adj2" fmla="val 415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50920" y="3227400"/>
            <a:ext cx="216000" cy="358920"/>
          </a:xfrm>
          <a:prstGeom prst="downArrow">
            <a:avLst>
              <a:gd name="adj1" fmla="val 50000"/>
              <a:gd name="adj2" fmla="val 4154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50920" y="4340160"/>
            <a:ext cx="216000" cy="358920"/>
          </a:xfrm>
          <a:prstGeom prst="downArrow">
            <a:avLst>
              <a:gd name="adj1" fmla="val 50000"/>
              <a:gd name="adj2" fmla="val 4154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4920" y="2940120"/>
            <a:ext cx="649440" cy="649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35280" y="4700520"/>
            <a:ext cx="649080" cy="649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63600" y="1835280"/>
            <a:ext cx="2880000" cy="72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Ascolta il n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0480" y="5715000"/>
            <a:ext cx="2879640" cy="72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2560" y="3645000"/>
            <a:ext cx="2879640" cy="72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ied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13120" y="3692520"/>
            <a:ext cx="2879640" cy="72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alzati in pie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24360" y="281952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sei sed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36720" y="283536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Sei in pi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50920" y="5348160"/>
            <a:ext cx="216000" cy="358920"/>
          </a:xfrm>
          <a:prstGeom prst="downArrow">
            <a:avLst>
              <a:gd name="adj1" fmla="val 50000"/>
              <a:gd name="adj2" fmla="val 4154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48360" y="4869000"/>
            <a:ext cx="195084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3440" y="6622920"/>
            <a:ext cx="2016360" cy="14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0920" y="6427800"/>
            <a:ext cx="14292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8000" y="1100160"/>
            <a:ext cx="142920" cy="5657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4437000"/>
            <a:ext cx="144360" cy="50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8000" y="955800"/>
            <a:ext cx="3095640" cy="287280"/>
          </a:xfrm>
          <a:prstGeom prst="rightArrow">
            <a:avLst>
              <a:gd name="adj1" fmla="val 50000"/>
              <a:gd name="adj2" fmla="val 2693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48360" y="1100160"/>
            <a:ext cx="144720" cy="3841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03560" y="955800"/>
            <a:ext cx="3095640" cy="287280"/>
          </a:xfrm>
          <a:prstGeom prst="leftArrow">
            <a:avLst>
              <a:gd name="adj1" fmla="val 50000"/>
              <a:gd name="adj2" fmla="val 2693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566892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Tocca il vicino di des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90920" y="1052640"/>
            <a:ext cx="2160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96360" y="4437000"/>
            <a:ext cx="1315800" cy="204012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3492360" y="314172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236000" y="1557360"/>
            <a:ext cx="1655640" cy="863640"/>
          </a:xfrm>
          <a:prstGeom prst="wedgeEllipseCallout">
            <a:avLst>
              <a:gd name="adj1" fmla="val -41754"/>
              <a:gd name="adj2" fmla="val 112500"/>
            </a:avLst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19640" y="981000"/>
            <a:ext cx="431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64360" y="907920"/>
            <a:ext cx="1979640" cy="2449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31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7596360" y="4437000"/>
            <a:ext cx="1195200" cy="19893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492360" y="98100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48000" y="907920"/>
            <a:ext cx="43200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92360" y="31654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50920" y="494172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1052640"/>
            <a:ext cx="2160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08000" y="4724280"/>
            <a:ext cx="50328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48000" y="2997360"/>
            <a:ext cx="503280" cy="502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7628040" y="4500720"/>
            <a:ext cx="1224000" cy="1896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877080" y="5229360"/>
            <a:ext cx="576360" cy="287280"/>
          </a:xfrm>
          <a:prstGeom prst="irregularSeal1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8720" y="1341360"/>
            <a:ext cx="1656000" cy="863640"/>
          </a:xfrm>
          <a:prstGeom prst="wedgeEllipseCallout">
            <a:avLst>
              <a:gd name="adj1" fmla="val -43194"/>
              <a:gd name="adj2" fmla="val 130699"/>
            </a:avLst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96360" y="1484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64360" y="1268280"/>
            <a:ext cx="1979640" cy="1800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40360" y="5084640"/>
            <a:ext cx="1513080" cy="64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124000" y="3187800"/>
            <a:ext cx="316728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-36360" y="-1000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Rego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67400" y="31680"/>
            <a:ext cx="43923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Per tutti, tranne il pr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4920" y="811080"/>
            <a:ext cx="649440" cy="649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90920" y="1460520"/>
            <a:ext cx="216000" cy="358920"/>
          </a:xfrm>
          <a:prstGeom prst="downArrow">
            <a:avLst>
              <a:gd name="adj1" fmla="val 50000"/>
              <a:gd name="adj2" fmla="val 4154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90920" y="2579760"/>
            <a:ext cx="216000" cy="358560"/>
          </a:xfrm>
          <a:prstGeom prst="downArrow">
            <a:avLst>
              <a:gd name="adj1" fmla="val 50000"/>
              <a:gd name="adj2" fmla="val 41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32520" y="3284640"/>
            <a:ext cx="215640" cy="358560"/>
          </a:xfrm>
          <a:prstGeom prst="downArrow">
            <a:avLst>
              <a:gd name="adj1" fmla="val 50000"/>
              <a:gd name="adj2" fmla="val 415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50920" y="3227400"/>
            <a:ext cx="216000" cy="358920"/>
          </a:xfrm>
          <a:prstGeom prst="downArrow">
            <a:avLst>
              <a:gd name="adj1" fmla="val 50000"/>
              <a:gd name="adj2" fmla="val 4154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50920" y="4340160"/>
            <a:ext cx="216000" cy="358920"/>
          </a:xfrm>
          <a:prstGeom prst="downArrow">
            <a:avLst>
              <a:gd name="adj1" fmla="val 50000"/>
              <a:gd name="adj2" fmla="val 4154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2924280"/>
            <a:ext cx="649080" cy="649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35280" y="4700520"/>
            <a:ext cx="649080" cy="649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63600" y="1835280"/>
            <a:ext cx="2880000" cy="72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90480" y="5715000"/>
            <a:ext cx="2879640" cy="72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2560" y="3645000"/>
            <a:ext cx="2879640" cy="72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ied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13120" y="3692520"/>
            <a:ext cx="2879640" cy="72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alzati in pie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24360" y="281952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sei sed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6720" y="283536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Sei in pi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50920" y="5348160"/>
            <a:ext cx="216000" cy="358920"/>
          </a:xfrm>
          <a:prstGeom prst="downArrow">
            <a:avLst>
              <a:gd name="adj1" fmla="val 50000"/>
              <a:gd name="adj2" fmla="val 4154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4869000"/>
            <a:ext cx="195084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3440" y="6622920"/>
            <a:ext cx="2016360" cy="14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50920" y="6427800"/>
            <a:ext cx="14292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8000" y="1100160"/>
            <a:ext cx="142920" cy="5657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48360" y="4437000"/>
            <a:ext cx="144360" cy="50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8000" y="955800"/>
            <a:ext cx="3095640" cy="287280"/>
          </a:xfrm>
          <a:prstGeom prst="rightArrow">
            <a:avLst>
              <a:gd name="adj1" fmla="val 50000"/>
              <a:gd name="adj2" fmla="val 2693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48360" y="1100160"/>
            <a:ext cx="144720" cy="3841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003560" y="955800"/>
            <a:ext cx="3095640" cy="287280"/>
          </a:xfrm>
          <a:prstGeom prst="leftArrow">
            <a:avLst>
              <a:gd name="adj1" fmla="val 50000"/>
              <a:gd name="adj2" fmla="val 2693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566892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Tocca il vicino di des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1052640"/>
            <a:ext cx="2160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7236000" y="4722840"/>
            <a:ext cx="1315800" cy="203976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sp>
        <p:nvSpPr>
          <p:cNvPr id="190" name=""/>
          <p:cNvSpPr/>
          <p:nvPr/>
        </p:nvSpPr>
        <p:spPr>
          <a:xfrm>
            <a:off x="3348000" y="981000"/>
            <a:ext cx="43200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7283520" y="4805280"/>
            <a:ext cx="1195200" cy="1989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492360" y="1052640"/>
            <a:ext cx="2160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48000" y="981000"/>
            <a:ext cx="43200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050920" y="494172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2360" y="314172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8000" y="4797360"/>
            <a:ext cx="50328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7308720" y="4813200"/>
            <a:ext cx="1224000" cy="18972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508720" y="5516640"/>
            <a:ext cx="863640" cy="431640"/>
          </a:xfrm>
          <a:prstGeom prst="irregularSeal1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79640" y="178920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Il tuo compagno di sinistra ti toc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658360" y="5342040"/>
            <a:ext cx="469800" cy="504720"/>
          </a:xfrm>
          <a:prstGeom prst="irregularSeal1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675640" y="5157720"/>
            <a:ext cx="468360" cy="792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48000" y="3068640"/>
            <a:ext cx="43200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604360" y="5316480"/>
            <a:ext cx="555480" cy="360360"/>
          </a:xfrm>
          <a:prstGeom prst="irregularSeal1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92360" y="314172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643960" y="5013360"/>
            <a:ext cx="500040" cy="720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48000" y="3068640"/>
            <a:ext cx="50328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2360" y="1052640"/>
            <a:ext cx="2160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72360" y="5516640"/>
            <a:ext cx="649080" cy="360360"/>
          </a:xfrm>
          <a:prstGeom prst="irregularSeal1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796000" y="5300640"/>
            <a:ext cx="1297080" cy="792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5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5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5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95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05:59:38Z</dcterms:created>
  <dc:creator>enrico</dc:creator>
  <dc:description/>
  <dc:language>en-US</dc:language>
  <cp:lastModifiedBy>enrico</cp:lastModifiedBy>
  <dcterms:modified xsi:type="dcterms:W3CDTF">2008-04-15T12:59:22Z</dcterms:modified>
  <cp:revision>5</cp:revision>
  <dc:subject/>
  <dc:title>Diapositiva 1</dc:title>
</cp:coreProperties>
</file>