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8DA-4306-44C8-8AEA-BACCB245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CEA-EBB1-4AEF-8814-F637A563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565-28CD-4847-BAA1-D8D7B2A3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B32-02CD-44B8-A9B8-705F926F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1C1-247A-4AD9-9C57-7F921508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F97-6AE1-4303-A2A8-B6AF3CB5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CFB-AD7F-4E45-A9E4-2B99F92F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AAD1-7164-44AC-BF94-C323AB73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1CA-A390-4B91-8148-5239F37E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73B-F164-4507-BE7B-DEF60899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3BA-5FF2-44CF-B887-A8056503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827-63CF-4D45-882E-8DD25B82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C76D-93C9-48A5-8690-202403B35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206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pperplate Gothic Bold"/>
              </a:rPr>
              <a:t>Il problema affrontato riguardava il confronto tra quantità</a:t>
            </a:r>
            <a:r>
              <a:rPr b="0" lang="en-US" sz="2400" spc="-1" strike="noStrike">
                <a:solidFill>
                  <a:srgbClr val="663300"/>
                </a:solidFill>
                <a:latin typeface="Copperplate Gothic Bold"/>
              </a:rPr>
              <a:t>   (numerosità di insie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492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Copperplate Gothic Bold"/>
              </a:rPr>
              <a:t>Possibili metodi di solu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3573360"/>
            <a:ext cx="4535280" cy="865440"/>
          </a:xfrm>
          <a:prstGeom prst="rect">
            <a:avLst/>
          </a:prstGeom>
          <a:solidFill>
            <a:srgbClr val="6633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pperplate Gothic Bold"/>
              </a:rPr>
              <a:t>Confronto dir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08464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Copperplate Gothic Bold"/>
              </a:rPr>
              <a:t>Determinazione del vincitore del singolo incontro con un “colpo d’occhi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24000" y="189000"/>
            <a:ext cx="4535640" cy="1008000"/>
          </a:xfrm>
          <a:prstGeom prst="rect">
            <a:avLst/>
          </a:prstGeom>
          <a:solidFill>
            <a:srgbClr val="6633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pperplate Gothic Bold"/>
              </a:rPr>
              <a:t>Confronto dir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pperplate Gothic Bold"/>
              </a:rPr>
              <a:t>Con raggrupp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41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Copperplate Gothic Bold"/>
              </a:rPr>
              <a:t>Determinazione del quartiere vincente ottenuta facendo corrispondere una “marca” a ogni partita vinta e, accorpando queste in gruppi di numerosità defin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342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Quartiere A                            Quartier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7640" y="4076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0560" y="4076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4076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4076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0200" y="4253040"/>
            <a:ext cx="865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3440" y="4076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56360" y="4076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4076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5080" y="4076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6000" y="425304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46530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0560" y="46530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46530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0200" y="4829040"/>
            <a:ext cx="865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3440" y="46054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46054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00720" y="46054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45080" y="46054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6000" y="478152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39720" y="52052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82640" y="52052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7360" y="52052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1720" y="52052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22280" y="5381640"/>
            <a:ext cx="865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05520" y="515772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48440" y="515772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92800" y="515772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37160" y="515772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88080" y="535788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21360" y="56610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64280" y="56610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8640" y="56610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53360" y="56610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03920" y="583740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3440" y="6245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6245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00720" y="6245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45080" y="6245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6000" y="642132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57420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57420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23960" y="4118040"/>
            <a:ext cx="2880000" cy="287280"/>
          </a:xfrm>
          <a:prstGeom prst="leftRightArrow">
            <a:avLst>
              <a:gd name="adj1" fmla="val 50000"/>
              <a:gd name="adj2" fmla="val 199573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48080" y="4708440"/>
            <a:ext cx="2879640" cy="287280"/>
          </a:xfrm>
          <a:prstGeom prst="leftRightArrow">
            <a:avLst>
              <a:gd name="adj1" fmla="val 50000"/>
              <a:gd name="adj2" fmla="val 199548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5229360"/>
            <a:ext cx="2879640" cy="287280"/>
          </a:xfrm>
          <a:prstGeom prst="leftRightArrow">
            <a:avLst>
              <a:gd name="adj1" fmla="val 50000"/>
              <a:gd name="adj2" fmla="val 199548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4000" y="148428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Copperplate Gothic Bold"/>
              </a:rPr>
              <a:t>La rappresentazione di quantità, in uso presso gli antichi romani, può essere vista come un’applicazione di questo crite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24000" y="125280"/>
            <a:ext cx="4535640" cy="1008360"/>
          </a:xfrm>
          <a:prstGeom prst="rect">
            <a:avLst/>
          </a:prstGeom>
          <a:solidFill>
            <a:srgbClr val="6633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pperplate Gothic Bold"/>
              </a:rPr>
              <a:t>Confronto dir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pperplate Gothic Bold"/>
              </a:rPr>
              <a:t>Con raggrupp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960" y="3068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1960" y="371628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9960" y="3716280"/>
            <a:ext cx="502920" cy="503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19400" y="465300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71760" y="465300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6120" y="465300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23760" y="465300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68480" y="465300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48040" y="5950080"/>
            <a:ext cx="502920" cy="503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32080" y="5950080"/>
            <a:ext cx="502920" cy="503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9360" y="595008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47800" y="595008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49600" y="595008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65560" y="595008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5800" y="5950080"/>
            <a:ext cx="502920" cy="503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65560" y="595008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1520" y="595008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67480" y="595008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3141720"/>
            <a:ext cx="6048360" cy="360360"/>
          </a:xfrm>
          <a:prstGeom prst="leftRightArrow">
            <a:avLst>
              <a:gd name="adj1" fmla="val 50000"/>
              <a:gd name="adj2" fmla="val 334130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3789360"/>
            <a:ext cx="6129360" cy="360360"/>
          </a:xfrm>
          <a:prstGeom prst="leftRightArrow">
            <a:avLst>
              <a:gd name="adj1" fmla="val 50000"/>
              <a:gd name="adj2" fmla="val 338605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04360" y="306072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756640" y="364500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604360" y="364500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4724280"/>
            <a:ext cx="1800360" cy="360360"/>
          </a:xfrm>
          <a:prstGeom prst="leftRightArrow">
            <a:avLst>
              <a:gd name="adj1" fmla="val 50000"/>
              <a:gd name="adj2" fmla="val 99457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4724280"/>
            <a:ext cx="2087640" cy="360360"/>
          </a:xfrm>
          <a:prstGeom prst="leftRightArrow">
            <a:avLst>
              <a:gd name="adj1" fmla="val 50000"/>
              <a:gd name="adj2" fmla="val 115328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48320" y="465300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040" y="465300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27680" y="465300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75400" y="465300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64120" y="465300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16880" y="4668840"/>
            <a:ext cx="14292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8675640" y="4652640"/>
            <a:ext cx="14436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92800" y="6005520"/>
            <a:ext cx="432000" cy="360360"/>
          </a:xfrm>
          <a:prstGeom prst="leftRightArrow">
            <a:avLst>
              <a:gd name="adj1" fmla="val 50000"/>
              <a:gd name="adj2" fmla="val 23865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40720" y="6021360"/>
            <a:ext cx="431640" cy="360360"/>
          </a:xfrm>
          <a:prstGeom prst="leftRightArrow">
            <a:avLst>
              <a:gd name="adj1" fmla="val 50000"/>
              <a:gd name="adj2" fmla="val 23845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61200" y="5973840"/>
            <a:ext cx="14292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419960" y="5957640"/>
            <a:ext cx="14436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61240" y="5965920"/>
            <a:ext cx="14292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020000" y="5949720"/>
            <a:ext cx="14436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532720" y="5950080"/>
            <a:ext cx="36036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532720" y="5949720"/>
            <a:ext cx="43200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2720" y="141120"/>
            <a:ext cx="4535280" cy="865440"/>
          </a:xfrm>
          <a:prstGeom prst="rect">
            <a:avLst/>
          </a:prstGeom>
          <a:solidFill>
            <a:srgbClr val="6633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pperplate Gothic Bold"/>
              </a:rPr>
              <a:t>Confronto indir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97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Presupp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1773360"/>
            <a:ext cx="8785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pperplate Gothic Bold"/>
              </a:rPr>
              <a:t>Si consideri la successione di generici   insiemi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 (generici in quanto indipendenti dalla natura degli elementi) </a:t>
            </a:r>
            <a:r>
              <a:rPr b="1" lang="en-US" sz="2800" spc="-1" strike="noStrike">
                <a:solidFill>
                  <a:srgbClr val="000000"/>
                </a:solidFill>
                <a:latin typeface="Copperplate Gothic Bold"/>
              </a:rPr>
              <a:t>ordinati secondo il criterio della numerosità cres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80504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3860640"/>
            <a:ext cx="647640" cy="72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27160" y="3860640"/>
            <a:ext cx="671760" cy="711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3860640"/>
            <a:ext cx="663480" cy="72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0000" y="3836880"/>
            <a:ext cx="720720" cy="719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4124160"/>
            <a:ext cx="1425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05000" y="42688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3080" y="42688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27520" y="40528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08360" y="42688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3960" y="42688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07280" y="412416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78760" y="412416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83520" y="412416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08520" y="394956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08520" y="41403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43322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04080" y="394020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04080" y="413064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43228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3836880"/>
            <a:ext cx="720720" cy="719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7120" y="394956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22960" y="41403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22960" y="43322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75400" y="39402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75400" y="4130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91240" y="43228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91440" y="40608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00720" y="4124160"/>
            <a:ext cx="142560" cy="144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124160"/>
            <a:ext cx="142920" cy="144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6720" y="4124160"/>
            <a:ext cx="142920" cy="144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85080" y="4052880"/>
            <a:ext cx="142920" cy="14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72360" y="4052880"/>
            <a:ext cx="142920" cy="14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61440" y="4052880"/>
            <a:ext cx="142920" cy="14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4340160"/>
            <a:ext cx="217440" cy="576360"/>
          </a:xfrm>
          <a:custGeom>
            <a:avLst/>
            <a:gdLst>
              <a:gd name="textAreaLeft" fmla="*/ 29160 w 217440"/>
              <a:gd name="textAreaRight" fmla="*/ 188280 w 217440"/>
              <a:gd name="textAreaTop" fmla="*/ 86400 h 576360"/>
              <a:gd name="textAreaBottom" fmla="*/ 489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480" stAng="-5400000" swAng="-5400000"/>
                <a:lnTo>
                  <a:pt x="0" y="15120"/>
                </a:lnTo>
                <a:arcTo wR="21600" hR="6480" stAng="10800000" swAng="-909002"/>
                <a:lnTo>
                  <a:pt x="5565" y="19462"/>
                </a:lnTo>
                <a:lnTo>
                  <a:pt x="21600" y="17280"/>
                </a:lnTo>
                <a:lnTo>
                  <a:pt x="5565" y="10822"/>
                </a:lnTo>
                <a:lnTo>
                  <a:pt x="5565" y="10822"/>
                </a:lnTo>
                <a:arcTo wR="21600" hR="6480" stAng="9890998" swAng="7786"/>
                <a:lnTo>
                  <a:pt x="5500" y="10800"/>
                </a:lnTo>
                <a:arcTo wR="21600" hR="6480" stAng="-9898785" swAng="4498785"/>
                <a:close/>
              </a:path>
              <a:path fill="darkenLess" w="21600" h="21600">
                <a:moveTo>
                  <a:pt x="21600" y="0"/>
                </a:moveTo>
                <a:arcTo wR="21600" hR="6480" stAng="-5400000" swAng="-5400000"/>
                <a:lnTo>
                  <a:pt x="0" y="6480"/>
                </a:lnTo>
                <a:arcTo wR="21600" hR="6480" stAng="10800000" swAng="-901215"/>
                <a:lnTo>
                  <a:pt x="5500" y="10800"/>
                </a:lnTo>
                <a:arcTo wR="21600" hR="6480" stAng="-9898785" swAng="449878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9080" y="4340160"/>
            <a:ext cx="287280" cy="936720"/>
          </a:xfrm>
          <a:custGeom>
            <a:avLst/>
            <a:gdLst>
              <a:gd name="textAreaLeft" fmla="*/ 38520 w 287280"/>
              <a:gd name="textAreaRight" fmla="*/ 248760 w 28728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2200" y="4411800"/>
            <a:ext cx="217440" cy="576000"/>
          </a:xfrm>
          <a:custGeom>
            <a:avLst/>
            <a:gdLst>
              <a:gd name="textAreaLeft" fmla="*/ 29160 w 217440"/>
              <a:gd name="textAreaRight" fmla="*/ 188280 w 217440"/>
              <a:gd name="textAreaTop" fmla="*/ 86400 h 576000"/>
              <a:gd name="textAreaBottom" fmla="*/ 4896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480" stAng="-5400000" swAng="-5400000"/>
                <a:lnTo>
                  <a:pt x="0" y="15120"/>
                </a:lnTo>
                <a:arcTo wR="21600" hR="6480" stAng="10800000" swAng="-909002"/>
                <a:lnTo>
                  <a:pt x="5565" y="19462"/>
                </a:lnTo>
                <a:lnTo>
                  <a:pt x="21600" y="17280"/>
                </a:lnTo>
                <a:lnTo>
                  <a:pt x="5565" y="10822"/>
                </a:lnTo>
                <a:lnTo>
                  <a:pt x="5565" y="10822"/>
                </a:lnTo>
                <a:arcTo wR="21600" hR="6480" stAng="9890998" swAng="7786"/>
                <a:lnTo>
                  <a:pt x="5500" y="10800"/>
                </a:lnTo>
                <a:arcTo wR="21600" hR="6480" stAng="-9898785" swAng="4498785"/>
                <a:close/>
              </a:path>
              <a:path fill="darkenLess" w="21600" h="21600">
                <a:moveTo>
                  <a:pt x="21600" y="0"/>
                </a:moveTo>
                <a:arcTo wR="21600" hR="6480" stAng="-5400000" swAng="-5400000"/>
                <a:lnTo>
                  <a:pt x="0" y="6480"/>
                </a:lnTo>
                <a:arcTo wR="21600" hR="6480" stAng="10800000" swAng="-901215"/>
                <a:lnTo>
                  <a:pt x="5500" y="10800"/>
                </a:lnTo>
                <a:arcTo wR="21600" hR="6480" stAng="-9898785" swAng="449878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71640" y="4411800"/>
            <a:ext cx="287640" cy="936360"/>
          </a:xfrm>
          <a:custGeom>
            <a:avLst/>
            <a:gdLst>
              <a:gd name="textAreaLeft" fmla="*/ 38520 w 287640"/>
              <a:gd name="textAreaRight" fmla="*/ 249120 w 28764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40160"/>
            <a:ext cx="217440" cy="576360"/>
          </a:xfrm>
          <a:custGeom>
            <a:avLst/>
            <a:gdLst>
              <a:gd name="textAreaLeft" fmla="*/ 29160 w 217440"/>
              <a:gd name="textAreaRight" fmla="*/ 188280 w 217440"/>
              <a:gd name="textAreaTop" fmla="*/ 86400 h 576360"/>
              <a:gd name="textAreaBottom" fmla="*/ 489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480" stAng="-5400000" swAng="-5400000"/>
                <a:lnTo>
                  <a:pt x="0" y="15120"/>
                </a:lnTo>
                <a:arcTo wR="21600" hR="6480" stAng="10800000" swAng="-909002"/>
                <a:lnTo>
                  <a:pt x="5565" y="19462"/>
                </a:lnTo>
                <a:lnTo>
                  <a:pt x="21600" y="17280"/>
                </a:lnTo>
                <a:lnTo>
                  <a:pt x="5565" y="10822"/>
                </a:lnTo>
                <a:lnTo>
                  <a:pt x="5565" y="10822"/>
                </a:lnTo>
                <a:arcTo wR="21600" hR="6480" stAng="9890998" swAng="7786"/>
                <a:lnTo>
                  <a:pt x="5500" y="10800"/>
                </a:lnTo>
                <a:arcTo wR="21600" hR="6480" stAng="-9898785" swAng="4498785"/>
                <a:close/>
              </a:path>
              <a:path fill="darkenLess" w="21600" h="21600">
                <a:moveTo>
                  <a:pt x="21600" y="0"/>
                </a:moveTo>
                <a:arcTo wR="21600" hR="6480" stAng="-5400000" swAng="-5400000"/>
                <a:lnTo>
                  <a:pt x="0" y="6480"/>
                </a:lnTo>
                <a:arcTo wR="21600" hR="6480" stAng="10800000" swAng="-901215"/>
                <a:lnTo>
                  <a:pt x="5500" y="10800"/>
                </a:lnTo>
                <a:arcTo wR="21600" hR="6480" stAng="-9898785" swAng="449878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6160" y="4340160"/>
            <a:ext cx="287280" cy="936720"/>
          </a:xfrm>
          <a:custGeom>
            <a:avLst/>
            <a:gdLst>
              <a:gd name="textAreaLeft" fmla="*/ 38520 w 287280"/>
              <a:gd name="textAreaRight" fmla="*/ 248760 w 28728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2720" y="4268880"/>
            <a:ext cx="217440" cy="576000"/>
          </a:xfrm>
          <a:custGeom>
            <a:avLst/>
            <a:gdLst>
              <a:gd name="textAreaLeft" fmla="*/ 29160 w 217440"/>
              <a:gd name="textAreaRight" fmla="*/ 188280 w 217440"/>
              <a:gd name="textAreaTop" fmla="*/ 86400 h 576000"/>
              <a:gd name="textAreaBottom" fmla="*/ 4896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480" stAng="-5400000" swAng="-5400000"/>
                <a:lnTo>
                  <a:pt x="0" y="15120"/>
                </a:lnTo>
                <a:arcTo wR="21600" hR="6480" stAng="10800000" swAng="-909002"/>
                <a:lnTo>
                  <a:pt x="5565" y="19462"/>
                </a:lnTo>
                <a:lnTo>
                  <a:pt x="21600" y="17280"/>
                </a:lnTo>
                <a:lnTo>
                  <a:pt x="5565" y="10822"/>
                </a:lnTo>
                <a:lnTo>
                  <a:pt x="5565" y="10822"/>
                </a:lnTo>
                <a:arcTo wR="21600" hR="6480" stAng="9890998" swAng="7786"/>
                <a:lnTo>
                  <a:pt x="5500" y="10800"/>
                </a:lnTo>
                <a:arcTo wR="21600" hR="6480" stAng="-9898785" swAng="4498785"/>
                <a:close/>
              </a:path>
              <a:path fill="darkenLess" w="21600" h="21600">
                <a:moveTo>
                  <a:pt x="21600" y="0"/>
                </a:moveTo>
                <a:arcTo wR="21600" hR="6480" stAng="-5400000" swAng="-5400000"/>
                <a:lnTo>
                  <a:pt x="0" y="6480"/>
                </a:lnTo>
                <a:arcTo wR="21600" hR="6480" stAng="10800000" swAng="-901215"/>
                <a:lnTo>
                  <a:pt x="5500" y="10800"/>
                </a:lnTo>
                <a:arcTo wR="21600" hR="6480" stAng="-9898785" swAng="449878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02520" y="4268880"/>
            <a:ext cx="287280" cy="936360"/>
          </a:xfrm>
          <a:custGeom>
            <a:avLst/>
            <a:gdLst>
              <a:gd name="textAreaLeft" fmla="*/ 38520 w 287280"/>
              <a:gd name="textAreaRight" fmla="*/ 248760 w 28728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72320" y="4268880"/>
            <a:ext cx="217440" cy="576000"/>
          </a:xfrm>
          <a:custGeom>
            <a:avLst/>
            <a:gdLst>
              <a:gd name="textAreaLeft" fmla="*/ 29160 w 217440"/>
              <a:gd name="textAreaRight" fmla="*/ 188280 w 217440"/>
              <a:gd name="textAreaTop" fmla="*/ 86400 h 576000"/>
              <a:gd name="textAreaBottom" fmla="*/ 4896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480" stAng="-5400000" swAng="-5400000"/>
                <a:lnTo>
                  <a:pt x="0" y="15120"/>
                </a:lnTo>
                <a:arcTo wR="21600" hR="6480" stAng="10800000" swAng="-909002"/>
                <a:lnTo>
                  <a:pt x="5565" y="19462"/>
                </a:lnTo>
                <a:lnTo>
                  <a:pt x="21600" y="17280"/>
                </a:lnTo>
                <a:lnTo>
                  <a:pt x="5565" y="10822"/>
                </a:lnTo>
                <a:lnTo>
                  <a:pt x="5565" y="10822"/>
                </a:lnTo>
                <a:arcTo wR="21600" hR="6480" stAng="9890998" swAng="7786"/>
                <a:lnTo>
                  <a:pt x="5500" y="10800"/>
                </a:lnTo>
                <a:arcTo wR="21600" hR="6480" stAng="-9898785" swAng="4498785"/>
                <a:close/>
              </a:path>
              <a:path fill="darkenLess" w="21600" h="21600">
                <a:moveTo>
                  <a:pt x="21600" y="0"/>
                </a:moveTo>
                <a:arcTo wR="21600" hR="6480" stAng="-5400000" swAng="-5400000"/>
                <a:lnTo>
                  <a:pt x="0" y="6480"/>
                </a:lnTo>
                <a:arcTo wR="21600" hR="6480" stAng="10800000" swAng="-901215"/>
                <a:lnTo>
                  <a:pt x="5500" y="10800"/>
                </a:lnTo>
                <a:arcTo wR="21600" hR="6480" stAng="-9898785" swAng="449878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812000" y="4292640"/>
            <a:ext cx="287280" cy="936720"/>
          </a:xfrm>
          <a:custGeom>
            <a:avLst/>
            <a:gdLst>
              <a:gd name="textAreaLeft" fmla="*/ 38520 w 287280"/>
              <a:gd name="textAreaRight" fmla="*/ 248760 w 28728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9840" y="45878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40040" y="46134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458784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08720" y="45324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s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32520" y="4500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s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48909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95440" y="49165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27520" y="48942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24520" y="48132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13480" y="48132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85144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4360" y="580536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Ad ogni insieme si fa corrispondere un nome e un nume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333360"/>
            <a:ext cx="81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pperplate Gothic Bold"/>
              </a:rPr>
              <a:t>Gli insiemi, la cui numerosità deve essere valutata, vengono denominati seguendo le regole stabi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2924280"/>
            <a:ext cx="8424720" cy="39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pperplate Gothic Bold"/>
              </a:rPr>
              <a:t>Il problema risulta così risol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pperplate Gothic Bold"/>
              </a:rPr>
              <a:t>Il nome associato ad ogni insieme ne identifica non soltanto la quantità degli elementi, ma colloca tale insieme nell’ambito degli insiemi ordinati in modo cres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16000" y="476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Quartiere A                            Quartier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92360" y="13716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13716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9640" y="13716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4000" y="13716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74920" y="154764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57800" y="13716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00720" y="13716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5080" y="13716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89800" y="13716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154764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92360" y="194796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5280" y="194796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79640" y="194796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24000" y="194796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74920" y="212400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7800" y="19000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19000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45080" y="19000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9000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0360" y="207648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84440" y="25002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27360" y="25002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71720" y="25002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16080" y="25002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67000" y="267660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49880" y="24526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92800" y="24526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37160" y="24526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81880" y="24526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32440" y="265284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65720" y="295596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08640" y="295596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53360" y="295596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97720" y="295596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8280" y="3132000"/>
            <a:ext cx="865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57800" y="35402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35402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45080" y="35402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89800" y="35402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40360" y="371628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79640" y="303696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24000" y="303696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68680" y="1413000"/>
            <a:ext cx="2879640" cy="287280"/>
          </a:xfrm>
          <a:prstGeom prst="leftRightArrow">
            <a:avLst>
              <a:gd name="adj1" fmla="val 50000"/>
              <a:gd name="adj2" fmla="val 199548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92440" y="2003400"/>
            <a:ext cx="2879640" cy="287280"/>
          </a:xfrm>
          <a:prstGeom prst="leftRightArrow">
            <a:avLst>
              <a:gd name="adj1" fmla="val 50000"/>
              <a:gd name="adj2" fmla="val 199548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00360" y="2523960"/>
            <a:ext cx="2879640" cy="287640"/>
          </a:xfrm>
          <a:prstGeom prst="leftRightArrow">
            <a:avLst>
              <a:gd name="adj1" fmla="val 50000"/>
              <a:gd name="adj2" fmla="val 199298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26920" y="1268280"/>
            <a:ext cx="287640" cy="2160720"/>
          </a:xfrm>
          <a:custGeom>
            <a:avLst/>
            <a:gdLst>
              <a:gd name="textAreaLeft" fmla="*/ 183960 w 287640"/>
              <a:gd name="textAreaRight" fmla="*/ 288000 w 28764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20000" y="1268280"/>
            <a:ext cx="431640" cy="2665440"/>
          </a:xfrm>
          <a:custGeom>
            <a:avLst/>
            <a:gdLst>
              <a:gd name="textAreaLeft" fmla="*/ 0 w 431640"/>
              <a:gd name="textAreaRight" fmla="*/ 155880 w 43164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06064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796160" y="22366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4797360"/>
            <a:ext cx="79214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pperplate Gothic Bold"/>
              </a:rPr>
              <a:t>Ha vinto il quartiere 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pperplate Gothic Bold"/>
              </a:rPr>
              <a:t>25 &gt; 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24000" y="260280"/>
            <a:ext cx="8640720" cy="2305080"/>
          </a:xfrm>
          <a:prstGeom prst="rect">
            <a:avLst/>
          </a:prstGeom>
          <a:solidFill>
            <a:srgbClr val="ccff99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620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pperplate Gothic Bold"/>
              </a:rPr>
              <a:t>Il numero rappresenta la caratteristica che accomuna gli insiemi equipot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141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pperplate Gothic Bold"/>
              </a:rPr>
              <a:t>Per rappresentare i numeri noi adottiamo un sistema che si avvale di dieci simbo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30064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pperplate Gothic Bold"/>
              </a:rPr>
              <a:t>Denomin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-36360" y="4502160"/>
            <a:ext cx="95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pperplate Gothic Bold"/>
              </a:rPr>
              <a:t>0      1      2      3      4       5       6       7       8     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1578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c0000"/>
                </a:solidFill>
                <a:latin typeface="Copperplate Gothic Bold"/>
              </a:rPr>
              <a:t>SISTEMA DI NUMERAZIONE DECI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06:18:00Z</dcterms:created>
  <dc:creator>enrico</dc:creator>
  <dc:description/>
  <dc:language>en-US</dc:language>
  <cp:lastModifiedBy>enrico</cp:lastModifiedBy>
  <dcterms:modified xsi:type="dcterms:W3CDTF">2008-04-12T07:57:41Z</dcterms:modified>
  <cp:revision>3</cp:revision>
  <dc:subject/>
  <dc:title>Diapositiva 1</dc:title>
</cp:coreProperties>
</file>