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FD3-912A-4AD0-B93E-3133832F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DCC-20B7-45C5-A0D0-3D11A8CF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C76-ED0F-4264-AFB7-41C74D90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59F-DA6A-474B-AF3F-0E997A27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117-92D0-4F80-AEEA-A19A7C54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C33-2AB7-4995-B0A1-3B92594E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B38-7DC3-4D81-B4D9-89830E35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867-3076-4D40-B78E-920FC6A4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568-A92E-475E-AD5A-4FD3B286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940-4C19-4571-BE47-69DA1E46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7A9-F748-4D81-BA58-38602269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B1A-93FE-4DF4-AF4A-1A96F064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82CC-D77E-4445-8A23-4956E0D82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565360"/>
            <a:ext cx="8064360" cy="2448000"/>
          </a:xfrm>
          <a:prstGeom prst="rect">
            <a:avLst/>
          </a:prstGeom>
          <a:solidFill>
            <a:srgbClr val="ffff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2560" y="189000"/>
            <a:ext cx="187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1101</a:t>
            </a:r>
            <a:r>
              <a:rPr b="0" lang="en-US" sz="5400" spc="-1" strike="noStrike">
                <a:solidFill>
                  <a:srgbClr val="800000"/>
                </a:solidFill>
                <a:latin typeface="Arial"/>
              </a:rPr>
              <a:t>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262080"/>
            <a:ext cx="2305080" cy="790560"/>
          </a:xfrm>
          <a:prstGeom prst="rightArrow">
            <a:avLst>
              <a:gd name="adj1" fmla="val 50000"/>
              <a:gd name="adj2" fmla="val 72894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3280" y="6224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2360" y="6224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59640" y="6224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46920" y="6224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981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bina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1280" y="8380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decim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1280" y="2660760"/>
            <a:ext cx="3097080" cy="223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4000" y="266076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1280" y="309420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37080" y="2637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77080" y="26370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ci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2920" y="3236760"/>
            <a:ext cx="122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23280" y="3193920"/>
            <a:ext cx="64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440" y="2637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ORRISPOND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0" y="1341360"/>
            <a:ext cx="187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101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800000"/>
                </a:solidFill>
                <a:latin typeface="Arial"/>
              </a:rPr>
              <a:t>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0360" y="1730520"/>
            <a:ext cx="935280" cy="360360"/>
          </a:xfrm>
          <a:prstGeom prst="rightArrow">
            <a:avLst>
              <a:gd name="adj1" fmla="val 50000"/>
              <a:gd name="adj2" fmla="val 6488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4080" y="1601640"/>
            <a:ext cx="68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1 x 10 x 10 x 10 + 1 x 10 x 10 + 1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54840" y="20494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bina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033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bina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2322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0" y="52322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= 1 x 2 x 2 x 2 + 1 x 2 x 2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7040" y="5229360"/>
            <a:ext cx="38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= 1 x 8 + 1 x 4 + 1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27280" y="6134040"/>
            <a:ext cx="16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=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66100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decim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0"/>
            <a:ext cx="806472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regola ha valore gener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413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126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i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10160" y="765000"/>
            <a:ext cx="7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98100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720" y="20574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800" y="26370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58920" y="227664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2560" y="2060640"/>
            <a:ext cx="64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0 + 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0 +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6320" y="27018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4720" y="3205080"/>
            <a:ext cx="64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0  +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0  +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3097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30621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436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9560" y="38545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i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69080" y="3421080"/>
            <a:ext cx="935280" cy="360360"/>
          </a:xfrm>
          <a:prstGeom prst="rightArrow">
            <a:avLst>
              <a:gd name="adj1" fmla="val 50000"/>
              <a:gd name="adj2" fmla="val 6488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58136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43671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5  +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5  +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4222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222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49417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i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44000" y="227664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429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458136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80536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5532480"/>
            <a:ext cx="61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25  +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5  +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720" y="573408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51640" y="5475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60865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i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12000" y="6021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i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00000" y="1846440"/>
            <a:ext cx="72741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la lettura del pensie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95640" y="3357720"/>
            <a:ext cx="11638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°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920" y="44280"/>
            <a:ext cx="3276720" cy="252108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9000"/>
            <a:ext cx="34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9  11  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7   18  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3   25   27   29  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44280"/>
            <a:ext cx="3276720" cy="252108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36920"/>
            <a:ext cx="3276720" cy="252108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336920"/>
            <a:ext cx="3276720" cy="252108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2421000"/>
            <a:ext cx="3276720" cy="252072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404640"/>
            <a:ext cx="38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228600"/>
            <a:ext cx="305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1 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8  19 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3  26  27  30 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32000" y="2604960"/>
            <a:ext cx="302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3 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  21 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3  28  29  30 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508640"/>
            <a:ext cx="316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3 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4  25 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7  28  29  30 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4508640"/>
            <a:ext cx="3058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lain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1 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lain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4  25 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7  28  29  30 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465120"/>
            <a:ext cx="23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cegliete un num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4920" y="5013360"/>
            <a:ext cx="259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dicate dove è presente il numero che avete pens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781360"/>
            <a:ext cx="8424720" cy="2879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98100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ola per indovinare il numero pens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3357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ommate le cifre che sono più in alto di ogni raggruppamento che vi è stato indicato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997360"/>
            <a:ext cx="8064360" cy="24476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4:37:01Z</dcterms:created>
  <dc:creator>enrico</dc:creator>
  <dc:description/>
  <dc:language>en-US</dc:language>
  <cp:lastModifiedBy>enrico</cp:lastModifiedBy>
  <dcterms:modified xsi:type="dcterms:W3CDTF">2008-04-19T10:26:52Z</dcterms:modified>
  <cp:revision>6</cp:revision>
  <dc:subject/>
  <dc:title>Diapositiva 1</dc:title>
</cp:coreProperties>
</file>