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CE89-C766-48E7-B0B1-3AD990B8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C056-013D-4F24-ADF1-B2EB2C84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F4FE-1B7E-497D-B20F-33EE4621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AF3B-C3BA-417F-8D1C-635B8481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49A7-3875-471F-9C79-B9415A31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C745-0572-4980-B3C4-08BF60E1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7D8B-DE6B-4649-B68F-9DCF12C6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9736-8B75-4F0B-ABB1-DA11734B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516D-246A-496F-8FBD-3F71C390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B5BB-286E-4956-BA20-10054437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1F52-66A1-47FF-A528-8F1E161F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E81F-34E2-4256-876E-EE6C22F5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8138-41FC-4C9C-A84C-412706579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58920" y="333360"/>
          <a:ext cx="6841800" cy="6264000"/>
        </p:xfrm>
        <a:graphic>
          <a:graphicData uri="http://schemas.openxmlformats.org/drawingml/2006/table">
            <a:tbl>
              <a:tblPr/>
              <a:tblGrid>
                <a:gridCol w="1158480"/>
                <a:gridCol w="1070640"/>
                <a:gridCol w="1191600"/>
                <a:gridCol w="1071360"/>
                <a:gridCol w="1190880"/>
                <a:gridCol w="1158840"/>
              </a:tblGrid>
              <a:tr h="1278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97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698920" y="193032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79720" y="1916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44960" y="188748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54840" y="18730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278840" y="18302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2924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93080" y="292428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28800" y="39481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40360" y="39481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22600" y="39052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1280" y="494172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49482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93080" y="49482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59500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8000" y="5877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5877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91280" y="588312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7:02:21Z</dcterms:created>
  <dc:creator>enrico</dc:creator>
  <dc:description/>
  <dc:language>en-US</dc:language>
  <cp:lastModifiedBy>enrico</cp:lastModifiedBy>
  <dcterms:modified xsi:type="dcterms:W3CDTF">2008-04-14T17:27:51Z</dcterms:modified>
  <cp:revision>2</cp:revision>
  <dc:subject/>
  <dc:title>Diapositiva 1</dc:title>
</cp:coreProperties>
</file>