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744A-2820-46E2-977B-112562BDA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4D54-E20F-4D7D-A548-8E6961BF2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92CA-A55F-490F-B36F-318B83279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7E8D-C4F0-4494-BEF1-A6777F1C1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F9CF-B715-4B32-810C-E539E71B7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AE7E-00F5-4856-8AF6-CE8B99060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D2E2-988C-4514-9A2C-9D9E35D0B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12EF-9585-4A14-92D8-4DB231F7C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18F4-E492-4995-8404-7CC2F02B0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7ECE-D40A-4E9C-AAAF-401EBCD4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A5F8-CAC8-4D7D-A495-5EE71BA5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962D-B566-496D-BC29-025F1A8B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882CC-EDAA-452C-B83F-0512ED7B0A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03280" y="69228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Num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ens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292720" y="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turba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05080" y="170028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Num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ens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8720" y="277344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9 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  Num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ens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1909800"/>
            <a:ext cx="0" cy="358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56080" y="2081160"/>
            <a:ext cx="36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6480" y="3062160"/>
            <a:ext cx="0" cy="358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98920" y="3233880"/>
            <a:ext cx="36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56360" y="1765440"/>
            <a:ext cx="12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940360" y="277344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36360" y="6356520"/>
            <a:ext cx="33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um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ens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95640" y="6453360"/>
            <a:ext cx="1295280" cy="287280"/>
          </a:xfrm>
          <a:prstGeom prst="rightArrow">
            <a:avLst>
              <a:gd name="adj1" fmla="val 50000"/>
              <a:gd name="adj2" fmla="val 11271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6920" y="615168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un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ens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um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ens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 + …+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um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6013440" y="3355560"/>
            <a:ext cx="647640" cy="5257800"/>
          </a:xfrm>
          <a:custGeom>
            <a:avLst/>
            <a:gdLst>
              <a:gd name="textAreaLeft" fmla="*/ 0 w 647640"/>
              <a:gd name="textAreaRight" fmla="*/ 234000 w 647640"/>
              <a:gd name="textAreaTop" fmla="*/ 136800 h 5257800"/>
              <a:gd name="textAreaBottom" fmla="*/ 5121000 h 525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2920" y="514188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vol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403280" y="69228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Num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ens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292720" y="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turba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05080" y="170028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Num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ens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28720" y="277344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9 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  Num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ens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392580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10 x Num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ens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43280" y="1909800"/>
            <a:ext cx="0" cy="358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56080" y="2081160"/>
            <a:ext cx="36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86480" y="3062160"/>
            <a:ext cx="0" cy="358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98920" y="3233880"/>
            <a:ext cx="36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7920" y="4186080"/>
            <a:ext cx="0" cy="358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4357800"/>
            <a:ext cx="36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56360" y="1765440"/>
            <a:ext cx="12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940360" y="277344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940360" y="400536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4940280"/>
            <a:ext cx="9144000" cy="1944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4997520"/>
            <a:ext cx="9144000" cy="17398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ottraendo dal risultato 63 otterrete il numero originario moltiplicato per 10, cioè spostato di un posto verso sinist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08:00:52Z</dcterms:created>
  <dc:creator>enrico</dc:creator>
  <dc:description/>
  <dc:language>en-US</dc:language>
  <cp:lastModifiedBy>enrico</cp:lastModifiedBy>
  <dcterms:modified xsi:type="dcterms:W3CDTF">2008-04-14T08:30:33Z</dcterms:modified>
  <cp:revision>2</cp:revision>
  <dc:subject/>
  <dc:title>Diapositiva 1</dc:title>
</cp:coreProperties>
</file>