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30D-3A8F-4F8B-BF23-470F5AB7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D89-1FEB-4E06-A8F4-69B4A79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259-4D14-4329-8B8A-1FDA41F7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8CD-F539-4042-92EF-9D849DAD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FBD-5548-489A-ADE9-C8006D37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B13-E16A-4D9C-8287-79BD62F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501-257E-48DB-9FE7-3852D87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AE5-FDAC-4C8E-AE85-66B340C0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725-107B-499C-8BE3-4C412DB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946-7CC1-44A3-BCA7-804DB30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DAA-6357-46BB-A9C8-BA7B9BE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78B-1B6E-48FB-82FC-6281E20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6B3-C99F-4441-8CE7-1712A7DE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27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° PROBLE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43280" y="66672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portare in decimale il numero     trasform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23446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dati necessari s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71640" y="28494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ase del sistema di numerazione in cui è espresso il numero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E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994120"/>
            <a:ext cx="576360" cy="358560"/>
          </a:xfrm>
          <a:prstGeom prst="irregularSeal1">
            <a:avLst/>
          </a:prstGeom>
          <a:solidFill>
            <a:srgbClr val="ff1e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073400"/>
            <a:ext cx="576360" cy="358920"/>
          </a:xfrm>
          <a:prstGeom prst="irregularSeal1">
            <a:avLst/>
          </a:prstGeom>
          <a:solidFill>
            <a:srgbClr val="ff1e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0021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numero trasformato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13..F1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544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regola di trasformazione la conoscia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31640" y="189000"/>
            <a:ext cx="5472360" cy="27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11280" y="189000"/>
            <a:ext cx="1079640" cy="27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72000" y="189000"/>
            <a:ext cx="1079280" cy="27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1640" y="728640"/>
            <a:ext cx="5489640" cy="5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1640" y="1808280"/>
            <a:ext cx="5489640" cy="54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71640" y="277920"/>
            <a:ext cx="40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B              C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9400" y="695160"/>
            <a:ext cx="358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01640" y="135900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$D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01640" y="18921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$D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01640" y="24321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$D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502000" y="1089000"/>
            <a:ext cx="2700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502000" y="1088640"/>
            <a:ext cx="2611440" cy="98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02000" y="1089000"/>
            <a:ext cx="261144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20646600">
            <a:off x="4932000" y="998280"/>
            <a:ext cx="260280" cy="269640"/>
          </a:xfrm>
          <a:custGeom>
            <a:avLst/>
            <a:gdLst>
              <a:gd name="textAreaLeft" fmla="*/ 0 w 260280"/>
              <a:gd name="textAreaRight" fmla="*/ 260640 w 2602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85" y="0"/>
                </a:lnTo>
                <a:lnTo>
                  <a:pt x="21600" y="10800"/>
                </a:lnTo>
                <a:lnTo>
                  <a:pt x="2985" y="21600"/>
                </a:lnTo>
                <a:lnTo>
                  <a:pt x="0" y="21600"/>
                </a:lnTo>
                <a:lnTo>
                  <a:pt x="18615" y="1080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2720" y="117792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2720" y="1089000"/>
            <a:ext cx="90720" cy="8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579200">
            <a:off x="4932360" y="1088640"/>
            <a:ext cx="181080" cy="88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32360" y="1089000"/>
            <a:ext cx="90360" cy="1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21400">
            <a:off x="4890600" y="1063800"/>
            <a:ext cx="18108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92720" y="108900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ferimento asso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1640" y="2997360"/>
            <a:ext cx="5472360" cy="270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11280" y="2997360"/>
            <a:ext cx="1079640" cy="27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72000" y="2997360"/>
            <a:ext cx="1079280" cy="27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1640" y="3537000"/>
            <a:ext cx="5489640" cy="5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1640" y="4616280"/>
            <a:ext cx="5489640" cy="5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71640" y="3086280"/>
            <a:ext cx="40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B              C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9400" y="3503520"/>
            <a:ext cx="358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62360" y="42577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2141640" y="3808080"/>
            <a:ext cx="162072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24280" y="4782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2232000" y="4348080"/>
            <a:ext cx="162072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36880" y="527040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2216160" y="4821120"/>
            <a:ext cx="162072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92720" y="423864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ferimen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5892840"/>
            <a:ext cx="898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frase: “svolta a destra alla prossima”  cambia di significato al variare del posto in cui ci trovia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81680" y="14400"/>
            <a:ext cx="32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do copiamo le celle A2, A3, A4 dobbiamo tener presente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23080" y="2962440"/>
            <a:ext cx="322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do copiamo le celle C2, C3, C4 dobbiamo tener presente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6720" y="2905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0200" y="9079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83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2000" y="26028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9840" y="47628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20" y="169704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800" y="227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19162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2560" y="17002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+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6320" y="23414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2772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3131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23080" y="4978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44000" y="19162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52772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76252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0" y="549900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5 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5640" y="569124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59800" y="543240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60436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602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20920" y="423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423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45200" y="4203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9080" y="330192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96920" y="3087720"/>
            <a:ext cx="63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 +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327816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9718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62360" y="29322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3080" y="297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5600" y="369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852640"/>
            <a:ext cx="1152360" cy="180036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2709720"/>
            <a:ext cx="1152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21300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50208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3789360"/>
            <a:ext cx="115236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436572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55680" y="269244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5400" y="29574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65400" y="3205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81240" y="3502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87720" y="37656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71880" y="4068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79800" y="441324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47800" y="22525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1080" y="2684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8480" y="2944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1080" y="3203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7040" y="3476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2880" y="3765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7040" y="405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2640" y="43419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16160" y="174960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3600" y="1749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7800" y="13892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55800" y="17431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89000"/>
            <a:ext cx="62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+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1460520"/>
            <a:ext cx="442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a colonna G scriviamo gli espon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56120" y="2876400"/>
            <a:ext cx="1152360" cy="180036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56120" y="2733840"/>
            <a:ext cx="1152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56120" y="323676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56120" y="352584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56120" y="3813120"/>
            <a:ext cx="115236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56120" y="438948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7192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40200" y="26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0000" y="5149800"/>
            <a:ext cx="4356000" cy="1556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mo, trascinando il mouse, il contenuto di G14 in tutte le c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3933720"/>
            <a:ext cx="431964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a cella G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viamo:  = G13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2708280"/>
            <a:ext cx="433728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viamo 0 nella cella G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08520" y="29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32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844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08520" y="37735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037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8520" y="43498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9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9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84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84280" y="3379680"/>
            <a:ext cx="1152360" cy="180036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280" y="3236760"/>
            <a:ext cx="1152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374004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402912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4316400"/>
            <a:ext cx="115236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89276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7960" y="32194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17680" y="34844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17680" y="3732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33520" y="4029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24160" y="429264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24160" y="45957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32080" y="494028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00080" y="27795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360" y="3211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0" y="3471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360" y="3730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0" y="40035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0" y="429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0" y="4579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13372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3440" y="2133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177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27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43200" y="3403440"/>
            <a:ext cx="1152360" cy="180036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43200" y="3260880"/>
            <a:ext cx="1152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43200" y="376380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43200" y="405288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43200" y="4340160"/>
            <a:ext cx="115236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3200" y="491652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73400" y="28036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3203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5600" y="34513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11440" y="3740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11440" y="4011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5600" y="43005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02080" y="45640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5600" y="487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81000"/>
            <a:ext cx="8128080" cy="1290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a colonna H scriviamo i singoli prodot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 + 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  +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00320" y="3405240"/>
            <a:ext cx="1152720" cy="180000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0320" y="3262320"/>
            <a:ext cx="11527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00320" y="3765600"/>
            <a:ext cx="115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0320" y="4054320"/>
            <a:ext cx="115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00320" y="4341960"/>
            <a:ext cx="115272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00320" y="4917960"/>
            <a:ext cx="115272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8368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4400" y="1871640"/>
            <a:ext cx="47196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a cella H13 scriviam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F13*E3^G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2560" y="32068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92720" y="3068640"/>
            <a:ext cx="4735440" cy="1982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copiare la cella H13, il riferimento a E3 deve essere assolu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F13*$E$3^G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92720" y="5173560"/>
            <a:ext cx="4711680" cy="1556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amo, trascinando il mouse, il contenuto di H13 in tutte le c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1680" y="3444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1680" y="3745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16440" y="40305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06720" y="429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06720" y="4597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14640" y="494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62360" y="72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2720" y="72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0440" y="7714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84280" y="4370400"/>
            <a:ext cx="1152360" cy="180036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4280" y="4227480"/>
            <a:ext cx="1152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4280" y="473076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501984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4280" y="530712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4280" y="5883120"/>
            <a:ext cx="115236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7960" y="42102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17680" y="44751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7680" y="4722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33520" y="50198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24160" y="528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24160" y="55864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19120" y="588816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00080" y="377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360" y="420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0" y="4462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360" y="4721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0" y="499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60" y="528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0" y="557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0" y="585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3355920"/>
            <a:ext cx="115236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59080" y="33559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29955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3498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43200" y="4394160"/>
            <a:ext cx="1152360" cy="180036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43200" y="4251240"/>
            <a:ext cx="1152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43200" y="475452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43200" y="504360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43200" y="533088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3200" y="590724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73400" y="3794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4194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5600" y="44416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11440" y="4730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1440" y="5002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5600" y="5291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87680" y="55548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5600" y="5867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00320" y="4395960"/>
            <a:ext cx="1152720" cy="180000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00320" y="4253040"/>
            <a:ext cx="11527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00320" y="4756320"/>
            <a:ext cx="115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00320" y="5045040"/>
            <a:ext cx="115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00320" y="5332320"/>
            <a:ext cx="115272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00320" y="5908680"/>
            <a:ext cx="115272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38275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2560" y="41972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1680" y="44355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11680" y="4735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16440" y="502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06720" y="5284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06720" y="5587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5904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0"/>
            <a:ext cx="812808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risultato lo otterremo sommando le celle della colonna H dalla 13° alla 19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2492280"/>
            <a:ext cx="52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2203560"/>
            <a:ext cx="1725480" cy="576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=SOMMA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2720" y="2131920"/>
            <a:ext cx="122400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6720" y="249228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2205000"/>
            <a:ext cx="1224000" cy="576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0000" y="2492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97440" y="1413000"/>
            <a:ext cx="865080" cy="576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03640" y="1631880"/>
            <a:ext cx="138888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88" y="106"/>
                </a:moveTo>
                <a:arcTo wR="10800" hR="10800" stAng="-5882832" swAng="10879027"/>
                <a:lnTo>
                  <a:pt x="10800" y="10800"/>
                </a:lnTo>
                <a:close/>
              </a:path>
              <a:path fill="none" w="21600" h="21600">
                <a:moveTo>
                  <a:pt x="9288" y="106"/>
                </a:moveTo>
                <a:arcTo wR="10800" hR="10800" stAng="-5882832" swAng="1087902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rot="10316400">
            <a:off x="4259880" y="1627560"/>
            <a:ext cx="138924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64" y="27"/>
                </a:moveTo>
                <a:arcTo wR="10800" hR="10800" stAng="-5156704" swAng="10708112"/>
                <a:lnTo>
                  <a:pt x="10800" y="10800"/>
                </a:lnTo>
                <a:close/>
              </a:path>
              <a:path fill="none" w="21600" h="21600">
                <a:moveTo>
                  <a:pt x="11564" y="27"/>
                </a:moveTo>
                <a:arcTo wR="10800" hR="10800" stAng="-5156704" swAng="10708112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02120" y="6469200"/>
            <a:ext cx="115236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82920" y="6434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186000"/>
            <a:ext cx="4824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diamo attiva la cella H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84720" y="3762360"/>
            <a:ext cx="4824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riviamo  =SOMMA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4336920"/>
            <a:ext cx="4753080" cy="187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4040" y="443700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zioniamo il cursore sulla casella H1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s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, tenendolo premuto, farlo scorrere fino a H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6281640"/>
            <a:ext cx="475308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viam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invi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confe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6410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80920" y="1989000"/>
            <a:ext cx="8012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ate il vostro lavoro cambian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a il numero deci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a la base del sistem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3080" y="3894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2708280"/>
            <a:ext cx="720720" cy="630360"/>
          </a:xfrm>
          <a:prstGeom prst="star5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3519360"/>
            <a:ext cx="720720" cy="630360"/>
          </a:xfrm>
          <a:prstGeom prst="star5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79280" y="153828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° PROBLE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2000" y="338616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re il significato/la funzione del $ che è stato inserito in alcune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956720" y="1628640"/>
            <a:ext cx="936360" cy="2664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27640" y="1989000"/>
            <a:ext cx="936360" cy="23036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5120" y="985680"/>
            <a:ext cx="533520" cy="3294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415161718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28640" y="1052640"/>
          <a:ext cx="1218960" cy="3189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68280" y="97956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979560"/>
            <a:ext cx="64764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8240" y="979560"/>
            <a:ext cx="64764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3920" y="429264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240" y="1484280"/>
            <a:ext cx="19573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6160" y="2406600"/>
            <a:ext cx="19494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3200" y="3314880"/>
            <a:ext cx="19497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1280" y="1233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476280"/>
            <a:ext cx="1295280" cy="50328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490680"/>
            <a:ext cx="0" cy="50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44640" y="504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  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30280" y="1058760"/>
            <a:ext cx="533520" cy="3294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415161718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3440" y="10555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979560"/>
            <a:ext cx="30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73400" y="1052640"/>
            <a:ext cx="647640" cy="324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429264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73400" y="1557360"/>
            <a:ext cx="669132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1320" y="2492280"/>
            <a:ext cx="6683400" cy="41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3357720"/>
            <a:ext cx="6696360" cy="46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554040"/>
            <a:ext cx="6029280" cy="50472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0360" y="56844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55404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                                  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971800" y="1125360"/>
          <a:ext cx="6297480" cy="3189600"/>
        </p:xfrm>
        <a:graphic>
          <a:graphicData uri="http://schemas.openxmlformats.org/drawingml/2006/table">
            <a:tbl>
              <a:tblPr/>
              <a:tblGrid>
                <a:gridCol w="3008160"/>
                <a:gridCol w="32893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SE(E1&lt;=100;E1;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3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3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4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4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5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5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6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6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7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7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8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8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9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 rot="16200000">
            <a:off x="6372360" y="2707920"/>
            <a:ext cx="647640" cy="3816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40000" y="4941720"/>
            <a:ext cx="6624720" cy="1845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5013360"/>
            <a:ext cx="655308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utte le celle è sempre copiato il contenuto di E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valore copiato è “costant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3920" y="387504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11280" y="387504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40" y="3992400"/>
            <a:ext cx="8964720" cy="1136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36360" y="401940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i il contenuto della cella che ti sta sopra per il contenuto della cella E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28640" y="635040"/>
          <a:ext cx="1218960" cy="3189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1447920" y="561960"/>
            <a:ext cx="64764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58680"/>
            <a:ext cx="1295280" cy="50328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7308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4640" y="87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  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30280" y="641520"/>
            <a:ext cx="533520" cy="3294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415161718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73400" y="635040"/>
            <a:ext cx="647640" cy="324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0000" y="1139760"/>
            <a:ext cx="1512720" cy="432000"/>
          </a:xfrm>
          <a:prstGeom prst="wedgeRectCallout">
            <a:avLst>
              <a:gd name="adj1" fmla="val -177175"/>
              <a:gd name="adj2" fmla="val 614703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5120" y="568440"/>
            <a:ext cx="533520" cy="3294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415161718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8280" y="56196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8240" y="561960"/>
            <a:ext cx="64764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8240" y="1066680"/>
            <a:ext cx="19573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6160" y="1989000"/>
            <a:ext cx="19494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" y="2897280"/>
            <a:ext cx="19497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81612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3440" y="63828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40360" y="561960"/>
            <a:ext cx="30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73400" y="1139760"/>
            <a:ext cx="669132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1320" y="2075040"/>
            <a:ext cx="6683400" cy="41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68360" y="2940120"/>
            <a:ext cx="6696360" cy="46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16360" y="136440"/>
            <a:ext cx="6029280" cy="50508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15084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9280" y="13644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                                   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971800" y="708120"/>
          <a:ext cx="6297480" cy="3189240"/>
        </p:xfrm>
        <a:graphic>
          <a:graphicData uri="http://schemas.openxmlformats.org/drawingml/2006/table">
            <a:tbl>
              <a:tblPr/>
              <a:tblGrid>
                <a:gridCol w="3008160"/>
                <a:gridCol w="328932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SE(E1&lt;=100;E1;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3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3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4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4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5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5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6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6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7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7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8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NT(E18/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RESTO(E19;$E$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539640" y="5345280"/>
            <a:ext cx="8064720" cy="106884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indirizzo copiato varia al variare della posizione della cella in cui si co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9:48:24Z</dcterms:created>
  <dc:creator>enrico</dc:creator>
  <dc:description/>
  <dc:language>en-US</dc:language>
  <cp:lastModifiedBy>enrico</cp:lastModifiedBy>
  <dcterms:modified xsi:type="dcterms:W3CDTF">2008-04-25T04:17:45Z</dcterms:modified>
  <cp:revision>11</cp:revision>
  <dc:subject/>
  <dc:title>Diapositiva 1</dc:title>
</cp:coreProperties>
</file>