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01A-A3CF-4CAE-8731-544A3EE5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05D-852E-4A08-BA4B-6D29B99D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483-697C-42DD-85BB-70DB33D7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6F8-15E0-4FDF-85DF-3AAD2ACE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81D-5DAB-472B-91C0-4A633304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12F-1C15-4FE3-81DA-31E68B19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DAD-B5D3-4575-9366-BA94E607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BD1-E2A2-4F6E-8DF8-EFF21FD6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2AD-8096-4B4E-AEFA-FE95B763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B16-99EA-4571-8E5F-8AA7EA39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8D9-11F6-41DC-BC15-13FFA880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EB9-03E9-4AEA-8CAA-D466B8A8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9E9-C811-4B19-94B5-A93682120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32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La comunicazione infor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155600"/>
            <a:ext cx="78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l PC è un interlocutore molto rigido: per utilizzarlo bisogna rispettare le regole del suo lingu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360" y="3171960"/>
            <a:ext cx="87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e insegnare al COMPUTER come deve comportars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 regole linguistiche segu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3240"/>
            <a:ext cx="7056360" cy="718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52862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ggi affronteremo questo probl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9280" y="58341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lazione alla conversione di un numero decimale in numero quinari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lcoli saranno fatti nelle celle contenute nel rettangolo con vertici E13 .. F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19890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cella E13 copieremo il numero da trasformare solamente se inferiore o uguale a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508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iamo attiva la cella E13 e scrivi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373720"/>
            <a:ext cx="4048200" cy="10796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=se(E1&lt;=100;E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1917720"/>
            <a:ext cx="5315040" cy="216000"/>
          </a:xfrm>
          <a:prstGeom prst="parallelogram">
            <a:avLst>
              <a:gd name="adj" fmla="val 4679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848800">
            <a:off x="4630320" y="2026800"/>
            <a:ext cx="922320" cy="26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133720"/>
            <a:ext cx="4451400" cy="21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765000"/>
            <a:ext cx="180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693720"/>
            <a:ext cx="0" cy="133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765000"/>
            <a:ext cx="0" cy="1227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765000"/>
            <a:ext cx="0" cy="1182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4560" y="693720"/>
            <a:ext cx="1440" cy="1298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1414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1414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13431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853600">
            <a:off x="6575760" y="430920"/>
            <a:ext cx="2264040" cy="2109960"/>
          </a:xfrm>
          <a:prstGeom prst="wedgeEllipseCallout">
            <a:avLst>
              <a:gd name="adj1" fmla="val -47527"/>
              <a:gd name="adj2" fmla="val 97703"/>
            </a:avLst>
          </a:prstGeom>
          <a:solidFill>
            <a:srgbClr val="00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61080" y="7365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18320" y="80820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9140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62760" y="822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34040" y="8366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1280" y="8222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94400" y="4492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520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549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10400" y="5493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5349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67720" y="549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40800" y="5065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20080" y="88092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76960" y="952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50040" y="981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35720" y="981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21400" y="9669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93040" y="981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66120" y="938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96360" y="89532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53240" y="9669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26320" y="995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995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97680" y="981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69320" y="995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42400" y="9525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82040" y="665280"/>
            <a:ext cx="49032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38920" y="736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200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9768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83360" y="7509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55000" y="765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128080" y="722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48360" y="376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05600" y="44784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78680" y="476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4360" y="476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50040" y="461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21680" y="476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4400" y="4334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28000" y="96696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85240" y="1038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58320" y="1066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44000" y="1066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29680" y="1052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400960" y="1066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474040" y="10238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116856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05600" y="12398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78680" y="1268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4360" y="1268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50040" y="12542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21680" y="1268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94400" y="12254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125568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92880" y="132732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65960" y="1355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1355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37320" y="13413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08960" y="1355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82040" y="13129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1440" y="7365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78680" y="80820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5176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3744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23120" y="822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94400" y="8366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7938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7800" y="1384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55040" y="14558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28120" y="1484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13800" y="1484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99480" y="1469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70760" y="1484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43840" y="14414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32720" y="139860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9600" y="1469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62680" y="1498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1498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34040" y="1484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05680" y="1498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78760" y="14558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160020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49960" y="16714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2304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0872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94400" y="1685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6604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39120" y="16574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17589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08880" y="1830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81960" y="185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185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53320" y="1844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24960" y="185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97680" y="18162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26400" y="1600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883640" y="16714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5672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4240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28080" y="1685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19936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72440" y="16574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8000" y="12556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85240" y="132732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158320" y="1355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44000" y="1355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29680" y="1341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400960" y="1355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74040" y="13129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51640" y="111132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08880" y="1182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81960" y="1211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1211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53320" y="1197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24960" y="1211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97680" y="11685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02400" y="10969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16856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197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18400" y="1197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04080" y="1182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75360" y="1197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48440" y="11541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85080" y="19033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42320" y="1974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015400" y="2003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01080" y="2003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86760" y="1989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58040" y="2003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31120" y="1960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113680" y="1600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170920" y="16714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4400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2968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415360" y="1685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8664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559720" y="16574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42400" y="665280"/>
            <a:ext cx="49032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99280" y="736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5804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44080" y="750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15360" y="765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488440" y="722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812000" y="3189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869240" y="390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942320" y="41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028000" y="41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13680" y="4046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185320" y="41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58040" y="3762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80000" y="14320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43280" y="160164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14920" y="1673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1701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73680" y="1701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59360" y="1687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30640" y="1701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03720" y="1658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 decimale a qui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6600" y="2363760"/>
            <a:ext cx="2735280" cy="2087640"/>
          </a:xfrm>
          <a:prstGeom prst="wedgeEllipseCallout">
            <a:avLst>
              <a:gd name="adj1" fmla="val 78324"/>
              <a:gd name="adj2" fmla="val -74180"/>
            </a:avLst>
          </a:prstGeom>
          <a:solidFill>
            <a:srgbClr val="00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268128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1280" y="2752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2781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70040" y="2781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55720" y="2766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27000" y="2781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84240" y="2766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23940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44600" y="2465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7680" y="2494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03360" y="2494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89040" y="2479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60680" y="2494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33400" y="2451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8640" y="282564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9920" y="2897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2925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28680" y="2925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14360" y="29113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86000" y="2925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59080" y="2882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74920" y="284004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46200" y="29113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19280" y="2940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04960" y="2940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0640" y="2925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62280" y="2940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35000" y="2897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60600" y="26100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31880" y="2681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04960" y="2709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0640" y="2709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76320" y="2695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47960" y="2709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21040" y="26668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6920" y="232092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98560" y="23922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2421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57320" y="2421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43000" y="2406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4280" y="2421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87360" y="23781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6560" y="291132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78200" y="2982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3660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2640" y="2997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9392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67000" y="2968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26920" y="311292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98560" y="3184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3213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57320" y="3213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43000" y="3198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4280" y="3213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87360" y="31701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14560" y="32004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5840" y="3271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8920" y="3300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44600" y="3300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30280" y="3286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01920" y="3300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74640" y="3257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268128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71640" y="2752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44720" y="2781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0400" y="2781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16080" y="2766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87360" y="2781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60440" y="27385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360" y="332892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3400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20720" y="3429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06400" y="3429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440" y="34146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63720" y="3429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6800" y="33861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1280" y="334332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2560" y="34146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34434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41320" y="34434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7000" y="3429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98640" y="34434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71720" y="3400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354492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42920" y="36162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3645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01680" y="3645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87360" y="3630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59000" y="3645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32080" y="36021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30200" y="370368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01840" y="37749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74920" y="3803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90640" y="3760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04960" y="354492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76240" y="36162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49320" y="3645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35000" y="3645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021040" y="3630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92320" y="3645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65400" y="36021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06560" y="32004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78200" y="3271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0920" y="3300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136600" y="3300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22640" y="3286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93920" y="3300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367000" y="3257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30200" y="305604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01840" y="3127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74920" y="3156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60600" y="3156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46280" y="3141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17560" y="3156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90640" y="3112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0960" y="304164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2600" y="3112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5320" y="3141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1360" y="3141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97040" y="3127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8320" y="3141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41400" y="3098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92240" y="354492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63880" y="36162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36600" y="3645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22640" y="3645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08320" y="3630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79600" y="3645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52680" y="36021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20960" y="26100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92240" y="2681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065320" y="2709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51000" y="2709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36680" y="2695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8320" y="2709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381400" y="26668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90560" y="226368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62200" y="2335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35280" y="2363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20960" y="2363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006640" y="23493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77920" y="2363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51000" y="2320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843280" y="1989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41760" y="3213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338560" y="307008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395440" y="31417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468520" y="31701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54200" y="31701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639880" y="315612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11520" y="3170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84600" y="31273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52720" y="2827440"/>
            <a:ext cx="61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o stecco delle unità la quantità 1, corrisponde al resto della divisione tra la numerosità originaria 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4000" y="530388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 è la numerosità dell’insieme che deve essere ancora collocato sull’abaco a partire dallo stecco delle cinqu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9280" y="1917720"/>
            <a:ext cx="5315040" cy="216000"/>
          </a:xfrm>
          <a:prstGeom prst="parallelogram">
            <a:avLst>
              <a:gd name="adj" fmla="val 4679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20848800">
            <a:off x="4630320" y="2026800"/>
            <a:ext cx="922320" cy="26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9280" y="2133720"/>
            <a:ext cx="4451400" cy="21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43280" y="160164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14920" y="1673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1701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73680" y="1701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59360" y="1687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30640" y="1701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3720" y="1658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2392200"/>
            <a:ext cx="7020000" cy="1008360"/>
          </a:xfrm>
          <a:prstGeom prst="wedgeEllipseCallout">
            <a:avLst>
              <a:gd name="adj1" fmla="val 19513"/>
              <a:gd name="adj2" fmla="val -917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24000" y="693720"/>
            <a:ext cx="0" cy="133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32000" y="765000"/>
            <a:ext cx="0" cy="1227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765000"/>
            <a:ext cx="0" cy="1182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14560" y="693720"/>
            <a:ext cx="1440" cy="1298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16000" y="1414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132000" y="1414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95640" y="13431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2853600">
            <a:off x="6575760" y="430920"/>
            <a:ext cx="2264040" cy="2109960"/>
          </a:xfrm>
          <a:prstGeom prst="wedgeEllipseCallout">
            <a:avLst>
              <a:gd name="adj1" fmla="val -47527"/>
              <a:gd name="adj2" fmla="val 97703"/>
            </a:avLst>
          </a:prstGeom>
          <a:solidFill>
            <a:srgbClr val="00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61080" y="7365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718320" y="80820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79140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7708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62760" y="822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4040" y="8366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91280" y="8222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4492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451640" y="520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524720" y="549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10400" y="5493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96080" y="5349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767720" y="549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840800" y="5065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20080" y="88092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176960" y="952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50040" y="981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35720" y="981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421400" y="9669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493040" y="981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566120" y="938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96360" y="89532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53240" y="9669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726320" y="995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12000" y="995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97680" y="981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969320" y="995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042400" y="9525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682040" y="665280"/>
            <a:ext cx="49032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738920" y="736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81200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9768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83360" y="7509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055000" y="765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128080" y="722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48360" y="376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05600" y="44784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78680" y="476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4360" y="476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50040" y="461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21680" y="476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394400" y="4334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028000" y="96696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085240" y="1038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158320" y="1066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44000" y="1066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329680" y="1052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00960" y="1066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474040" y="10238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948360" y="116856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005600" y="12398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78680" y="1268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4360" y="1268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250040" y="12542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321680" y="1268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94400" y="12254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236000" y="125568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92880" y="132732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65960" y="1355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451640" y="1355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537320" y="13413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08960" y="1355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682040" y="13129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021440" y="7365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78680" y="80820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5176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3744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23120" y="822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394400" y="8366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467480" y="7938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7800" y="1384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55040" y="14558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28120" y="1484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813800" y="1484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899480" y="1469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970760" y="1484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43840" y="14414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32720" y="139860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9600" y="1469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2680" y="1498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948360" y="1498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34040" y="1484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5680" y="1498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78760" y="14558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093080" y="160020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149960" y="16714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22304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30872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394400" y="1685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46604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39120" y="16574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451640" y="17589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08880" y="1830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581960" y="185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667640" y="185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753320" y="1844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24960" y="185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897680" y="18162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826400" y="1600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883640" y="16714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95672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04240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28080" y="1685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19936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72440" y="16574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028000" y="12556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085240" y="132732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158320" y="1355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44000" y="1355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329680" y="1341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400960" y="1355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74040" y="13129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111132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08880" y="1182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581960" y="1211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67640" y="1211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753320" y="1197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824960" y="1211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97680" y="11685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02400" y="10969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59640" y="116856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32720" y="1197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18400" y="1197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04080" y="1182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975360" y="1197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048440" y="11541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885080" y="19033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942320" y="1974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015400" y="2003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101080" y="2003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186760" y="1989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258040" y="2003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1120" y="1960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113680" y="1600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170920" y="16714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24400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32968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15360" y="1685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8664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59720" y="16574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042400" y="665280"/>
            <a:ext cx="49032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099280" y="736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17236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5804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344080" y="750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15360" y="765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488440" y="722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12000" y="3189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869240" y="390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942320" y="41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28000" y="41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113680" y="4046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185320" y="41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258040" y="3762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580000" y="14320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 decimale a qui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-144360" y="374652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ella F13 lo conterrà come resto della divisione tra il numero originari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E13]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 la base del sistema di numerazione di riferimen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E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2637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oliamo il numero delle unit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765000"/>
            <a:ext cx="0" cy="93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8360" y="5489640"/>
            <a:ext cx="4535280" cy="1368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=resto(E13;E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637240" y="603576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criviamo la formula e controlliamone l’eff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79280" y="1917720"/>
            <a:ext cx="5315040" cy="216000"/>
          </a:xfrm>
          <a:prstGeom prst="parallelogram">
            <a:avLst>
              <a:gd name="adj" fmla="val 4679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20848800">
            <a:off x="4630320" y="2026800"/>
            <a:ext cx="922320" cy="26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79280" y="2133720"/>
            <a:ext cx="4451400" cy="21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124000" y="693720"/>
            <a:ext cx="0" cy="133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32000" y="765000"/>
            <a:ext cx="0" cy="1227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765000"/>
            <a:ext cx="0" cy="1182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114560" y="693720"/>
            <a:ext cx="1440" cy="1298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16000" y="1414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32000" y="1414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95640" y="13431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2853600">
            <a:off x="6575760" y="430920"/>
            <a:ext cx="2264040" cy="2109960"/>
          </a:xfrm>
          <a:prstGeom prst="wedgeEllipseCallout">
            <a:avLst>
              <a:gd name="adj1" fmla="val -47527"/>
              <a:gd name="adj2" fmla="val 97703"/>
            </a:avLst>
          </a:prstGeom>
          <a:solidFill>
            <a:srgbClr val="00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661080" y="7365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18320" y="80820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9140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7708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62760" y="822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034040" y="8366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91280" y="8222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94400" y="4492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451640" y="520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524720" y="549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10400" y="5493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696080" y="5349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67720" y="549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840800" y="5065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120080" y="88092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76960" y="952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250040" y="981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335720" y="981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421400" y="9669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93040" y="981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66120" y="938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596360" y="89532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653240" y="9669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726320" y="995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812000" y="995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897680" y="981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969320" y="995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042400" y="9525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682040" y="665280"/>
            <a:ext cx="49032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738920" y="736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81200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89768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83360" y="7509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055000" y="765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128080" y="722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948360" y="376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005600" y="44784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078680" y="476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164360" y="476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250040" y="461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321680" y="476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394400" y="4334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028000" y="96696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085240" y="1038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158320" y="1066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244000" y="1066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29680" y="1052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00960" y="1066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474040" y="10238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948360" y="116856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05600" y="12398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078680" y="1268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164360" y="1268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250040" y="12542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321680" y="1268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394400" y="12254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236000" y="125568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92880" y="132732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365960" y="1355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451640" y="1355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537320" y="13413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608960" y="1355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82040" y="13129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21440" y="7365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078680" y="80820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15176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237440" y="836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323120" y="822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394400" y="8366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467480" y="7938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97800" y="1384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655040" y="14558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28120" y="1484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13800" y="1484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899480" y="1469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970760" y="1484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043840" y="14414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139860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89600" y="1469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62680" y="1498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948360" y="1498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34040" y="1484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05680" y="1498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78760" y="14558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093080" y="160020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149960" y="16714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2304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30872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394400" y="1685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46604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39120" y="16574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451640" y="17589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508880" y="1830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581960" y="185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667640" y="185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753320" y="18446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824960" y="185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897680" y="18162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826400" y="1600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883640" y="16714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95672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04240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128080" y="1685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19936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272440" y="16574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028000" y="12556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085240" y="132732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158320" y="1355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244000" y="1355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329680" y="1341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400960" y="1355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474040" y="13129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451640" y="111132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08880" y="1182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81960" y="1211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667640" y="1211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753320" y="1197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824960" y="1211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897680" y="11685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602400" y="10969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59640" y="116856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732720" y="1197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818400" y="1197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04080" y="1182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975360" y="1197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048440" y="11541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885080" y="19033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942320" y="1974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015400" y="2003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8101080" y="20034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186760" y="1989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258040" y="20034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331120" y="1960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113680" y="16002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170920" y="16714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24400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32968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415360" y="1685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48664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559720" y="16574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042400" y="665280"/>
            <a:ext cx="49032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099280" y="736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17236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58040" y="765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344080" y="750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415360" y="765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488440" y="722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812000" y="31896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869240" y="390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942320" y="41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028000" y="41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113680" y="4046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185320" y="4190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258040" y="3762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724360" y="1413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643280" y="160164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714920" y="1673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788000" y="1701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73680" y="1701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959360" y="1687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30640" y="1701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103720" y="1658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 decimale a qui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4000" y="2349360"/>
            <a:ext cx="7777080" cy="1108080"/>
          </a:xfrm>
          <a:prstGeom prst="wedgeEllipseCallout">
            <a:avLst>
              <a:gd name="adj1" fmla="val -2847"/>
              <a:gd name="adj2" fmla="val -9885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-252360" y="3789360"/>
            <a:ext cx="93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ella E14 lo conterrà come quoziente intero della divisione tra il numero originari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E13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 la base del sistema di numerazione di riferimen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E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0920" y="5373720"/>
            <a:ext cx="4392360" cy="1368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=int(E13/E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116000" y="2421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oliamo la numerosità dell’insieme da collocare sul secondo ste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84640" y="5796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criviamo la formula e controlliamone l’eff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859280" y="765000"/>
            <a:ext cx="0" cy="93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79280" y="18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iamo attiva la cella E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569440" cy="5568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36" name=""/>
          <p:cNvSpPr/>
          <p:nvPr/>
        </p:nvSpPr>
        <p:spPr>
          <a:xfrm>
            <a:off x="4702320" y="6165720"/>
            <a:ext cx="100800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681520" y="6323040"/>
            <a:ext cx="716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15280" y="249876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INT(E13/E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10800000">
            <a:off x="1674360" y="3212640"/>
            <a:ext cx="2737080" cy="647640"/>
          </a:xfrm>
          <a:prstGeom prst="wedgeRectCallout">
            <a:avLst>
              <a:gd name="adj1" fmla="val -32023"/>
              <a:gd name="adj2" fmla="val 11053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(E13/E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08000" y="4076640"/>
            <a:ext cx="89647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tiamo il cursore prima del 3 [click-sin] e scrivere $ Mettiamo il cursore prima di  E [click-sin]  e scriviamo $ confermare con INV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334120" y="61214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459480" y="58910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43480" y="58910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826920" y="2565360"/>
            <a:ext cx="36036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843120" y="25239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79280" y="18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iamo attiva la cella E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569440" cy="5568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48" name=""/>
          <p:cNvSpPr/>
          <p:nvPr/>
        </p:nvSpPr>
        <p:spPr>
          <a:xfrm>
            <a:off x="4702320" y="6165720"/>
            <a:ext cx="100800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681520" y="6323040"/>
            <a:ext cx="716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916360" y="249876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INT(E13/$E$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0800000">
            <a:off x="1188720" y="3357360"/>
            <a:ext cx="3311640" cy="647640"/>
          </a:xfrm>
          <a:prstGeom prst="wedgeRectCallout">
            <a:avLst>
              <a:gd name="adj1" fmla="val -24833"/>
              <a:gd name="adj2" fmla="val 13627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(E13/$E$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826920" y="46530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iamo il cursore sopra l’angolo inferiore destro della cella atti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E1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724360" y="6237360"/>
            <a:ext cx="0" cy="288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580000" y="638172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702320" y="6165720"/>
            <a:ext cx="100800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681520" y="6323040"/>
            <a:ext cx="716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334120" y="61214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295960" y="58910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59480" y="59072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187280" y="25239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26920" y="256536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539640" y="814320"/>
            <a:ext cx="8317080" cy="60436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79280" y="18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iamo attiva la cella E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51640" y="4971960"/>
            <a:ext cx="1152360" cy="287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75480" y="5189400"/>
            <a:ext cx="144360" cy="1447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772320" y="5129280"/>
            <a:ext cx="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32640" y="527688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95280" y="1700280"/>
            <a:ext cx="7848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miamo il tasto sinistro del mouse e teniamolo schiacci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141720"/>
            <a:ext cx="7561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scinare verso il basso il mouse fino a raggiungere la cella E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651640" y="4941720"/>
            <a:ext cx="115236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404040" y="4994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19880" y="47005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669080" y="47386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651640" y="5229360"/>
            <a:ext cx="1152360" cy="1368360"/>
          </a:xfrm>
          <a:prstGeom prst="rect">
            <a:avLst/>
          </a:prstGeom>
          <a:solidFill>
            <a:srgbClr val="8ea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477120" y="52452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469200" y="55008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70640" y="5781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486480" y="6292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84680" y="5997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50920" y="404640"/>
            <a:ext cx="86040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petiamo il procedimento per la cella F1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1628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eponiamo il simbolo $ a E3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$E$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11280" y="2565360"/>
            <a:ext cx="45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piamo il contenuto di F13, trascinando il Mouse, nelle celle F14, F15, F15, F17, F18, F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402240" y="3036960"/>
            <a:ext cx="1152720" cy="180000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02240" y="2894040"/>
            <a:ext cx="115272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402240" y="33973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402240" y="36860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402240" y="3973680"/>
            <a:ext cx="1152720" cy="28872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402240" y="4549680"/>
            <a:ext cx="1152720" cy="289080"/>
          </a:xfrm>
          <a:prstGeom prst="rect">
            <a:avLst/>
          </a:prstGeom>
          <a:solidFill>
            <a:srgbClr val="8ea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226280" y="28764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36000" y="3141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236000" y="338940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251840" y="368604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257960" y="39495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242120" y="4253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250040" y="45975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690560" y="5621400"/>
            <a:ext cx="5329440" cy="10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411280" y="56926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1                3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51280" y="5910120"/>
            <a:ext cx="1079640" cy="358920"/>
          </a:xfrm>
          <a:prstGeom prst="rightArrow">
            <a:avLst>
              <a:gd name="adj1" fmla="val 50000"/>
              <a:gd name="adj2" fmla="val 7520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00360" y="61977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813280" y="6165720"/>
            <a:ext cx="10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i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411280" y="5661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1                3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51280" y="5878440"/>
            <a:ext cx="1079640" cy="358920"/>
          </a:xfrm>
          <a:prstGeom prst="rightArrow">
            <a:avLst>
              <a:gd name="adj1" fmla="val 50000"/>
              <a:gd name="adj2" fmla="val 7520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00360" y="6165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179280" y="-8568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celle da E5  a K5 conterranno le singole cifre del risul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1197000"/>
            <a:ext cx="8713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cifra è significativ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a trascrivere]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condizione che la cella alla sua sinist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nella colonna E, contenente il numero degli elementi da collocare sull’abaco]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a maggiore di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3573360"/>
            <a:ext cx="95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la cella K5, che esprime le unità, scrivere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403280" y="4164120"/>
            <a:ext cx="5977080" cy="936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=se(E13&gt;0;F13,” “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-3240" y="5286240"/>
            <a:ext cx="85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così via … fino alla cella E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403280" y="5878440"/>
            <a:ext cx="5977080" cy="936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=se(E19&gt;0;F19,” “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539640" y="155736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e il valore del numero del numero decimale e del sistema di numerazione di riferimento per controllare che i valori esposti siano aggiornati in funzione dei cambia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981000"/>
            <a:ext cx="5722920" cy="113508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mero dec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2565360"/>
            <a:ext cx="6985080" cy="122400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stema di numerazion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4365720"/>
            <a:ext cx="6789600" cy="122400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mero trasfor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40720" y="1052640"/>
            <a:ext cx="1079280" cy="1081080"/>
          </a:xfrm>
          <a:prstGeom prst="rect">
            <a:avLst/>
          </a:prstGeom>
          <a:solidFill>
            <a:srgbClr val="0000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48640" y="4437000"/>
            <a:ext cx="1081080" cy="1152720"/>
          </a:xfrm>
          <a:prstGeom prst="rect">
            <a:avLst/>
          </a:prstGeom>
          <a:solidFill>
            <a:srgbClr val="0000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40720" y="2637000"/>
            <a:ext cx="1079280" cy="1081080"/>
          </a:xfrm>
          <a:prstGeom prst="rect">
            <a:avLst/>
          </a:prstGeom>
          <a:solidFill>
            <a:srgbClr val="0000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96720" y="3429000"/>
            <a:ext cx="8498160" cy="180036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280" y="692280"/>
            <a:ext cx="8137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115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procedimento per convertire un numero decimale in un sistema di numerazione diverso è stato portato a 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1989000"/>
            <a:ext cx="9144000" cy="106884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mane un punto oscuro: che senso hanno i caratteri $ che sono stati scritti nelle form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8000" y="3500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servate le formule che sono contenute nelle celle per trovare la ris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5681520"/>
            <a:ext cx="84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 parleremo nella prossima lezione, dopo la vostra riflessione casali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252360"/>
            <a:ext cx="8424720" cy="640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19640" y="5589720"/>
            <a:ext cx="4464000" cy="576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2122200"/>
            <a:ext cx="101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3357720"/>
            <a:ext cx="1800000" cy="33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3357720"/>
            <a:ext cx="1512720" cy="33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89360"/>
            <a:ext cx="7777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4797360"/>
            <a:ext cx="7777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5805360"/>
            <a:ext cx="7200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32720" y="3429000"/>
            <a:ext cx="287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357720"/>
            <a:ext cx="1800360" cy="43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076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ochiamo il cursore su 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4560" y="558972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viamo:   NUMERO DECIMALE    e premiamo  INVIO -  per confer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4508640"/>
            <a:ext cx="802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miamo il pulsante sinistro del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42920" y="-27000"/>
            <a:ext cx="6732720" cy="3917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11480" y="2508120"/>
            <a:ext cx="1224000" cy="28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1148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o deci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2920" y="3429000"/>
            <a:ext cx="8893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zeremo il nostro foglio per convertire numeri decimali non superiori a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4605480"/>
            <a:ext cx="813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 deve controllare che tale vincolo sia rispet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0520" y="5757840"/>
            <a:ext cx="8640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 espressioni usiamo per esprimere  un criterio di scel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620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ttivi esempi si imitano facilmente, quelli buoni diffici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1592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l proverb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9890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uò essere riscrit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8526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’esempio è cat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ORA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 imito facil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RIMENTI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 imito difficil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’ bene osservare che le due formulazioni non sono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l tut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equivalenti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047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’esempio è cat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ORA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 imito facil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RIMENTI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 imito difficil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997360"/>
            <a:ext cx="2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708280"/>
            <a:ext cx="790560" cy="576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997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2637000"/>
            <a:ext cx="1224000" cy="7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00360" y="2997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2708280"/>
            <a:ext cx="1224000" cy="576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3080" y="2997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637000"/>
            <a:ext cx="1081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io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3080" y="2924280"/>
            <a:ext cx="214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2637000"/>
            <a:ext cx="1582920" cy="576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R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50200" y="29257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08760" y="2565360"/>
            <a:ext cx="1081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io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93080" y="2924280"/>
            <a:ext cx="2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799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’ambiente EXCEL il costrutto di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28440" y="6165720"/>
            <a:ext cx="250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843520"/>
            <a:ext cx="1079640" cy="6494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=S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616428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803920"/>
            <a:ext cx="1224000" cy="7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616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8720" y="5877000"/>
            <a:ext cx="936720" cy="576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5440" y="6164280"/>
            <a:ext cx="2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7800" y="5803920"/>
            <a:ext cx="1081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io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8880" y="6091200"/>
            <a:ext cx="214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3080" y="5803920"/>
            <a:ext cx="863640" cy="576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60930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5640" y="5732640"/>
            <a:ext cx="1081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io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59600" y="6091200"/>
            <a:ext cx="2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05840" y="5788080"/>
            <a:ext cx="685800" cy="576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93080" y="6091200"/>
            <a:ext cx="2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5805360"/>
            <a:ext cx="8497800" cy="8636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884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=SE(E1&gt;100;”numero troppo grande”;” 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704800">
            <a:off x="2124000" y="2852640"/>
            <a:ext cx="1079640" cy="3240360"/>
          </a:xfrm>
          <a:prstGeom prst="downArrow">
            <a:avLst>
              <a:gd name="adj1" fmla="val 50000"/>
              <a:gd name="adj2" fmla="val 75033"/>
            </a:avLst>
          </a:prstGeom>
          <a:solidFill>
            <a:srgbClr val="00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201000">
            <a:off x="5569560" y="2457720"/>
            <a:ext cx="934920" cy="4680000"/>
          </a:xfrm>
          <a:prstGeom prst="downArrow">
            <a:avLst>
              <a:gd name="adj1" fmla="val 50000"/>
              <a:gd name="adj2" fmla="val 125144"/>
            </a:avLst>
          </a:prstGeom>
          <a:solidFill>
            <a:srgbClr val="00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28640"/>
            <a:ext cx="946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S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E1  &gt;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-2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riveremo il numero da convertire in E1  Il suo valore non deve superare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149560"/>
            <a:ext cx="2232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LLORA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2708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CRIVI:  “numero troppo gran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1370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LTR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2920" y="3716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n fare n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920" y="54021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iamo attiva la cella E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2324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03640" y="1700280"/>
            <a:ext cx="79200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4209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ero deci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95200" y="563580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LICK SINISTRO su E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34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iamo attiva la cella E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61800" y="248760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LICK SINISTRO su E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000" y="3789360"/>
            <a:ext cx="8497800" cy="8636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5680" y="3933720"/>
            <a:ext cx="82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=SE(E1&gt;100;”numero troppo grande”;” 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riviam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0360" y="609300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ntrolliamo scrivendo un numero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581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mere INVIO per confer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36360" y="-2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iamo attiva la cella 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36360" y="6681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viam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20720" y="1197000"/>
            <a:ext cx="7488360" cy="792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di numerazione di 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637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ella E3  conterrà l’in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92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viam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64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iamo attiva la cella C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4869000"/>
            <a:ext cx="4390920" cy="792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trasform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558972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 celle E5, F5, G5, H5, I5, J5, K5  conterranno le singole cifre del risul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1935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mere invio per confer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4:54:39Z</dcterms:created>
  <dc:creator>enrico</dc:creator>
  <dc:description/>
  <dc:language>en-US</dc:language>
  <cp:lastModifiedBy>enrico</cp:lastModifiedBy>
  <dcterms:modified xsi:type="dcterms:W3CDTF">2008-04-22T06:39:38Z</dcterms:modified>
  <cp:revision>17</cp:revision>
  <dc:subject/>
  <dc:title>Diapositiva 1</dc:title>
</cp:coreProperties>
</file>