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4C1-92D2-45BE-84D7-E350D7BB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926-A4BA-4D60-972A-B60FDD23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643-1195-4DAE-A369-00162908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7BD-1626-45F8-BEA3-0EB7890E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501-0378-4A77-B19B-43A4864E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40B-7DCB-4B06-993E-71827CA6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1B3-775D-4463-996E-F332EBEF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122-0F52-4103-ACDD-296C59C6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140-ED7E-47E3-9E80-5ECBA4EB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753-943F-461A-AC1B-082C0A48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A2D-474E-44AA-B4C1-54299AA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4B7-235E-409D-9524-FD8058C0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342A-1F78-4FBE-9046-3E54C1ECD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14180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50216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6580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216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125360"/>
            <a:ext cx="35892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1125360"/>
            <a:ext cx="358920" cy="358920"/>
          </a:xfrm>
          <a:prstGeom prst="smileyFace">
            <a:avLst>
              <a:gd name="adj" fmla="val -4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1125360"/>
            <a:ext cx="35856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692280"/>
            <a:ext cx="358920" cy="35856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2720" y="765000"/>
            <a:ext cx="35892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765000"/>
            <a:ext cx="358920" cy="358920"/>
          </a:xfrm>
          <a:prstGeom prst="smileyFace">
            <a:avLst>
              <a:gd name="adj" fmla="val -4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765000"/>
            <a:ext cx="35856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331920"/>
            <a:ext cx="358920" cy="35856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197000"/>
            <a:ext cx="35892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5280" y="1197000"/>
            <a:ext cx="358560" cy="358920"/>
          </a:xfrm>
          <a:prstGeom prst="smileyFace">
            <a:avLst>
              <a:gd name="adj" fmla="val -4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6920" y="1197000"/>
            <a:ext cx="35892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763560"/>
            <a:ext cx="35856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909720"/>
            <a:ext cx="358560" cy="35856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7080" y="909720"/>
            <a:ext cx="358560" cy="358560"/>
          </a:xfrm>
          <a:prstGeom prst="smileyFace">
            <a:avLst>
              <a:gd name="adj" fmla="val -4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8720" y="909720"/>
            <a:ext cx="358920" cy="35856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476280"/>
            <a:ext cx="35856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836640"/>
            <a:ext cx="35892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836640"/>
            <a:ext cx="358920" cy="358920"/>
          </a:xfrm>
          <a:prstGeom prst="smileyFace">
            <a:avLst>
              <a:gd name="adj" fmla="val -4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35856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403200"/>
            <a:ext cx="35892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549360"/>
            <a:ext cx="358560" cy="35856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981000"/>
            <a:ext cx="35892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1268280"/>
            <a:ext cx="35892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1125360"/>
            <a:ext cx="35892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1268280"/>
            <a:ext cx="35856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1125360"/>
            <a:ext cx="358560" cy="3589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42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636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584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18400" y="29829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04000" y="3357720"/>
            <a:ext cx="720720" cy="1223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3875040"/>
            <a:ext cx="561672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71560" y="3357720"/>
            <a:ext cx="1224000" cy="1223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3933720"/>
            <a:ext cx="540072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osciamo le regole per trasformare un numero quinario in deci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157720"/>
            <a:ext cx="67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Applichiamole anche alla trasformazione inver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esem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68360" y="981000"/>
            <a:ext cx="1439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189080" y="981000"/>
            <a:ext cx="0" cy="720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07640" y="981000"/>
            <a:ext cx="36036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8360" y="981000"/>
            <a:ext cx="28872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08000" y="1557360"/>
            <a:ext cx="649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531440" y="1006560"/>
            <a:ext cx="360360" cy="576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892160" y="1006560"/>
            <a:ext cx="289080" cy="576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531800" y="1582560"/>
            <a:ext cx="649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181240" y="1989000"/>
            <a:ext cx="0" cy="720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115640" y="1989000"/>
            <a:ext cx="36036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476360" y="1989000"/>
            <a:ext cx="28908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16000" y="2565360"/>
            <a:ext cx="649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539800" y="2014560"/>
            <a:ext cx="36036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00520" y="2014560"/>
            <a:ext cx="28872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540160" y="2590920"/>
            <a:ext cx="649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700360" y="3048120"/>
            <a:ext cx="1440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21080" y="3048120"/>
            <a:ext cx="0" cy="720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2339640" y="3048120"/>
            <a:ext cx="360360" cy="576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00360" y="3048120"/>
            <a:ext cx="289080" cy="576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340000" y="3624120"/>
            <a:ext cx="649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763440" y="3073320"/>
            <a:ext cx="36036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124160" y="3073320"/>
            <a:ext cx="28908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763800" y="3649680"/>
            <a:ext cx="649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708360" y="4049640"/>
            <a:ext cx="1440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427640" y="4076640"/>
            <a:ext cx="0" cy="720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3347640" y="4049640"/>
            <a:ext cx="36036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708360" y="4049640"/>
            <a:ext cx="28908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348000" y="4626000"/>
            <a:ext cx="649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4771800" y="4075200"/>
            <a:ext cx="360360" cy="576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132520" y="4075200"/>
            <a:ext cx="288720" cy="576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772160" y="4651200"/>
            <a:ext cx="649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17217600">
            <a:off x="1342800" y="1018800"/>
            <a:ext cx="387360" cy="1419480"/>
          </a:xfrm>
          <a:prstGeom prst="downArrow">
            <a:avLst>
              <a:gd name="adj1" fmla="val 50000"/>
              <a:gd name="adj2" fmla="val 91612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rot="16965000">
            <a:off x="2307960" y="2052720"/>
            <a:ext cx="387360" cy="1397160"/>
          </a:xfrm>
          <a:prstGeom prst="downArrow">
            <a:avLst>
              <a:gd name="adj1" fmla="val 50000"/>
              <a:gd name="adj2" fmla="val 90172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rot="17011200">
            <a:off x="3470040" y="3135240"/>
            <a:ext cx="387360" cy="1352520"/>
          </a:xfrm>
          <a:prstGeom prst="downArrow">
            <a:avLst>
              <a:gd name="adj1" fmla="val 50000"/>
              <a:gd name="adj2" fmla="val 87291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17320200">
            <a:off x="4399560" y="4259520"/>
            <a:ext cx="360360" cy="1168560"/>
          </a:xfrm>
          <a:prstGeom prst="downArrow">
            <a:avLst>
              <a:gd name="adj1" fmla="val 50000"/>
              <a:gd name="adj2" fmla="val 81069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84360" y="105264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492360" y="19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72000" y="306864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435640" y="4005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72360" y="501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527800" y="0"/>
            <a:ext cx="3616200" cy="1655640"/>
          </a:xfrm>
          <a:prstGeom prst="rect">
            <a:avLst/>
          </a:prstGeom>
          <a:solidFill>
            <a:srgbClr val="00009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651640" y="189000"/>
            <a:ext cx="33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ante sono le pall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4027320"/>
            <a:ext cx="334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Pensateci a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Ne parleremo nel prossimo inco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500720" y="5013360"/>
            <a:ext cx="1439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221440" y="5013360"/>
            <a:ext cx="0" cy="720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4140000" y="5013360"/>
            <a:ext cx="36036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500720" y="5013360"/>
            <a:ext cx="28872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140360" y="5589720"/>
            <a:ext cx="649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5563800" y="5038560"/>
            <a:ext cx="36036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924520" y="5038560"/>
            <a:ext cx="28908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564160" y="5614920"/>
            <a:ext cx="649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17320200">
            <a:off x="5191560" y="5222880"/>
            <a:ext cx="360360" cy="1168200"/>
          </a:xfrm>
          <a:prstGeom prst="downArrow">
            <a:avLst>
              <a:gd name="adj1" fmla="val 50000"/>
              <a:gd name="adj2" fmla="val 81044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8560" y="6060960"/>
            <a:ext cx="1440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012000" y="6073920"/>
            <a:ext cx="0" cy="720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947840" y="6060960"/>
            <a:ext cx="36036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08560" y="6060960"/>
            <a:ext cx="28908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948200" y="6637320"/>
            <a:ext cx="649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6372000" y="6086520"/>
            <a:ext cx="36036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732720" y="6086520"/>
            <a:ext cx="28872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372360" y="6662880"/>
            <a:ext cx="649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219800" y="615636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16000" y="620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35040" y="10936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i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84480" y="620640"/>
            <a:ext cx="3168720" cy="576360"/>
          </a:xfrm>
          <a:prstGeom prst="rightArrow">
            <a:avLst>
              <a:gd name="adj1" fmla="val 50000"/>
              <a:gd name="adj2" fmla="val 13744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13560" y="27612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1052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215568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6680" y="26290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i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11440" y="2124000"/>
            <a:ext cx="1727280" cy="576360"/>
          </a:xfrm>
          <a:prstGeom prst="rightArrow">
            <a:avLst>
              <a:gd name="adj1" fmla="val 50000"/>
              <a:gd name="adj2" fmla="val 7492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3110040"/>
            <a:ext cx="504720" cy="57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30384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0 +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0 + 7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68920" y="360036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i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16720" y="3038400"/>
            <a:ext cx="1727280" cy="576360"/>
          </a:xfrm>
          <a:prstGeom prst="rightArrow">
            <a:avLst>
              <a:gd name="adj1" fmla="val 50000"/>
              <a:gd name="adj2" fmla="val 7492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098960"/>
            <a:ext cx="50472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01680" y="4084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0 + 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0 +  1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0000" y="4149720"/>
            <a:ext cx="1727280" cy="576360"/>
          </a:xfrm>
          <a:prstGeom prst="rightArrow">
            <a:avLst>
              <a:gd name="adj1" fmla="val 50000"/>
              <a:gd name="adj2" fmla="val 7492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9600" y="45529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067360"/>
            <a:ext cx="50472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50198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400 + 20 + 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70520" y="548496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5022720"/>
            <a:ext cx="1727280" cy="576360"/>
          </a:xfrm>
          <a:prstGeom prst="rightArrow">
            <a:avLst>
              <a:gd name="adj1" fmla="val 50000"/>
              <a:gd name="adj2" fmla="val 7492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019920"/>
            <a:ext cx="505080" cy="57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594828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00 + 20 + 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26080" y="63514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5962680"/>
            <a:ext cx="1727280" cy="576360"/>
          </a:xfrm>
          <a:prstGeom prst="rightArrow">
            <a:avLst>
              <a:gd name="adj1" fmla="val 50000"/>
              <a:gd name="adj2" fmla="val 7492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59450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53480" y="637524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602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l conteggio fatto presuppone la competenza d’operare con le regole della somma e della moltiplicazione relative al sistema di numerazione in cui deve essere espresso il risul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07664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E’ molto più 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economico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isporre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i un procedimento che, avvalendosi delle regole del sistema decimale, effettui la trasformazione volu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765000"/>
            <a:ext cx="835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1592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Riprendiamo l’abaco per quantificare, in quinario,  317  pezzi di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2867040"/>
            <a:ext cx="5315040" cy="216000"/>
          </a:xfrm>
          <a:prstGeom prst="parallelogram">
            <a:avLst>
              <a:gd name="adj" fmla="val 4679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848800">
            <a:off x="4630320" y="2976120"/>
            <a:ext cx="922320" cy="26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3083040"/>
            <a:ext cx="4451400" cy="215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1714680"/>
            <a:ext cx="1800" cy="122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643040"/>
            <a:ext cx="0" cy="133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1714680"/>
            <a:ext cx="0" cy="122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1714680"/>
            <a:ext cx="0" cy="118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4560" y="1643040"/>
            <a:ext cx="1440" cy="1298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23637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23637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22924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853600">
            <a:off x="6575760" y="1380240"/>
            <a:ext cx="2264040" cy="2109960"/>
          </a:xfrm>
          <a:prstGeom prst="wedgeEllipseCallout">
            <a:avLst>
              <a:gd name="adj1" fmla="val -61564"/>
              <a:gd name="adj2" fmla="val 99958"/>
            </a:avLst>
          </a:prstGeom>
          <a:solidFill>
            <a:srgbClr val="ff99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61080" y="168588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17575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91400" y="17859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7080" y="17859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62760" y="17715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34040" y="17859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91280" y="1771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94400" y="13986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51640" y="1469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14986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10400" y="14986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1484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67720" y="14986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40800" y="14558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20080" y="183024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76960" y="1901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50040" y="19303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35720" y="19303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21400" y="191628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93040" y="19303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66120" y="18874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96360" y="184464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53240" y="191628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26320" y="19447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12000" y="19447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97680" y="19303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69320" y="19447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42400" y="19018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82040" y="1614600"/>
            <a:ext cx="49032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38920" y="1685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2000" y="171468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97680" y="171468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83360" y="17002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55000" y="171468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128080" y="16714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48360" y="132552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05600" y="139716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78680" y="1425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1425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50040" y="14112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21680" y="1425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94400" y="13827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28000" y="1916280"/>
            <a:ext cx="49068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85240" y="19875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58320" y="2016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44000" y="2016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29680" y="20019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400960" y="2016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74040" y="19731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48360" y="2117880"/>
            <a:ext cx="49068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05600" y="21891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78680" y="2217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4360" y="2217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50040" y="22035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21680" y="2217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94400" y="21747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20500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92880" y="227664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65960" y="23050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51640" y="23050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37320" y="22906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8960" y="23050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82040" y="226224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1440" y="168588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78680" y="17575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51760" y="17859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37440" y="17859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23120" y="17715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94400" y="17859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17431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97800" y="233352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55040" y="24051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28120" y="2433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13800" y="2433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99480" y="24192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970760" y="24336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43840" y="23907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32720" y="234792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89600" y="24192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62680" y="2448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48360" y="2448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34040" y="24336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05680" y="24480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78760" y="24051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2549520"/>
            <a:ext cx="49032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49960" y="26208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23040" y="26496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26496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94400" y="26352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6040" y="2649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39120" y="26067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51640" y="270828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08880" y="27795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81960" y="2808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67640" y="2808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53320" y="27939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24960" y="2808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97680" y="27655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26400" y="254952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83640" y="26208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56720" y="2649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42400" y="2649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28080" y="26352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99360" y="26496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72440" y="26067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28000" y="220500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85240" y="227664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58320" y="23050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44000" y="23050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29680" y="22906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00960" y="23050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474040" y="22622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51640" y="2060640"/>
            <a:ext cx="49068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08880" y="21319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81960" y="21607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67640" y="21607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53320" y="21463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24960" y="21607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97680" y="2117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02400" y="204624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9640" y="21178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32720" y="21463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18400" y="21463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04080" y="21319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75360" y="21463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48440" y="21034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85080" y="285264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42320" y="2924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15400" y="29527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01080" y="29527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86760" y="29383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58040" y="29527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31120" y="2909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13680" y="254952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70920" y="26208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44000" y="2649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29680" y="26496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415360" y="263520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486640" y="26496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559720" y="26067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42400" y="1614600"/>
            <a:ext cx="49032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99280" y="16858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2360" y="171468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8040" y="1714680"/>
            <a:ext cx="180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4080" y="1700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15360" y="1714680"/>
            <a:ext cx="1440" cy="41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488440" y="16714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2000" y="1268280"/>
            <a:ext cx="490680" cy="5176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69240" y="133992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42320" y="1368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28000" y="1368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113680" y="135396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185320" y="136836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58040" y="13255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08720" y="1917720"/>
            <a:ext cx="100800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716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utta la pasta non può essere ospitata sul primo stecco di destra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[quello delle unità]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840" y="48481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er esprimere la numerosità dei pezzi di pasta utilizzeremo una procedura che utilizza, come unità di misura, quello dello stecco più a sinistr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[quello delle cinqui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4360" y="4873680"/>
            <a:ext cx="5314680" cy="216000"/>
          </a:xfrm>
          <a:prstGeom prst="parallelogram">
            <a:avLst>
              <a:gd name="adj" fmla="val 46795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5089680"/>
            <a:ext cx="4451040" cy="215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5462640"/>
            <a:ext cx="2735280" cy="1206360"/>
          </a:xfrm>
          <a:prstGeom prst="wedgeEllipseCallout">
            <a:avLst>
              <a:gd name="adj1" fmla="val 62129"/>
              <a:gd name="adj2" fmla="val -84208"/>
            </a:avLst>
          </a:prstGeom>
          <a:solidFill>
            <a:srgbClr val="ff99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85920" y="1268280"/>
            <a:ext cx="5315040" cy="216000"/>
          </a:xfrm>
          <a:prstGeom prst="parallelogram">
            <a:avLst>
              <a:gd name="adj" fmla="val 4679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20848800">
            <a:off x="5736960" y="1377720"/>
            <a:ext cx="922320" cy="26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85920" y="1484280"/>
            <a:ext cx="4451400" cy="216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30640" y="44280"/>
            <a:ext cx="0" cy="133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38640" y="115920"/>
            <a:ext cx="0" cy="1227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02280" y="115920"/>
            <a:ext cx="0" cy="118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20840" y="44280"/>
            <a:ext cx="1800" cy="1298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22640" y="765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38640" y="765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02280" y="693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49920" y="95256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21200" y="10238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94280" y="1052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79960" y="1052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66000" y="1038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37280" y="1052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10360" y="1009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58920" y="1484280"/>
            <a:ext cx="2952720" cy="2016000"/>
          </a:xfrm>
          <a:prstGeom prst="wedgeEllipseCallout">
            <a:avLst>
              <a:gd name="adj1" fmla="val 75106"/>
              <a:gd name="adj2" fmla="val -63620"/>
            </a:avLst>
          </a:prstGeom>
          <a:solidFill>
            <a:srgbClr val="ff99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203184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17560" y="2103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90640" y="21319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76320" y="21319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62000" y="2117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33640" y="21319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90880" y="2117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379600" y="174456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51240" y="18162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23960" y="1844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1844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95680" y="18302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766960" y="1844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0040" y="1801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04920" y="217656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76560" y="22478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49640" y="2276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35320" y="2276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21000" y="2262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92280" y="2276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65360" y="22334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81200" y="2190600"/>
            <a:ext cx="50508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52840" y="2262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25560" y="2290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11600" y="2290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97280" y="2276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68560" y="2290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1640" y="22478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196056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38520" y="20318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11600" y="2060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97280" y="2060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82960" y="2046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54240" y="2060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7320" y="2017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33560" y="167148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04840" y="1743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077920" y="1771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3600" y="1771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49640" y="17575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20920" y="1771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94000" y="1728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13200" y="226224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84480" y="23335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57560" y="2362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43240" y="2362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28920" y="2347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00560" y="2362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73280" y="2319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33560" y="246384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04840" y="25351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77920" y="2563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63600" y="2563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49640" y="25495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20920" y="2563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94000" y="2521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20840" y="255096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92480" y="2622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65200" y="2651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51240" y="2651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36920" y="2637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08200" y="2651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81280" y="26082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06640" y="203184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77920" y="2103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51000" y="21319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36680" y="21319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22360" y="2117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94000" y="21319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467080" y="20890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83000" y="267984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54280" y="2751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27360" y="2779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13040" y="2779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98720" y="27655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70360" y="2779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3080" y="2736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17560" y="2693880"/>
            <a:ext cx="50508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89200" y="27655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62280" y="2793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47960" y="2793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33640" y="2779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04920" y="2793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78000" y="2751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77920" y="2895480"/>
            <a:ext cx="50508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149560" y="2967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22640" y="2995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308320" y="2995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394000" y="29811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65280" y="2995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38360" y="2952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436840" y="305424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8120" y="3125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56000" y="3184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97280" y="3111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11600" y="289548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82880" y="2967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955960" y="2995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41640" y="2995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27320" y="29811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98960" y="2995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71680" y="2952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13200" y="255096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84480" y="2622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57560" y="2651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43240" y="2651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328920" y="2637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00560" y="2651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73280" y="26082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36840" y="240660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8120" y="2478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81200" y="2506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2506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52560" y="24922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24200" y="2506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97280" y="24638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87600" y="239220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658880" y="24638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1960" y="24922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17640" y="24922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03320" y="2478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4960" y="24922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48040" y="24494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98880" y="289548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0160" y="2967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43240" y="2995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28920" y="2995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14600" y="29811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86240" y="2995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59320" y="2952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27240" y="196056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98880" y="20318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171960" y="2060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57640" y="2060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343320" y="2046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14600" y="2060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487680" y="2017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797200" y="16146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868480" y="1685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941560" y="1714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27240" y="1714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12920" y="17002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184560" y="1714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57640" y="16714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282920" y="692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48040" y="256392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44840" y="2421000"/>
            <a:ext cx="490680" cy="5173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02080" y="24922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75160" y="25210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60840" y="25210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46520" y="2506680"/>
            <a:ext cx="14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17800" y="252108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90880" y="247824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24360" y="620640"/>
            <a:ext cx="50508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35600" y="6922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08680" y="720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994360" y="720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80040" y="7063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51680" y="720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24760" y="677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964120" y="22860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0560" y="2133720"/>
            <a:ext cx="45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ieseguiamo la procedura sul numero delle cinqu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20848800">
            <a:off x="5135040" y="4982760"/>
            <a:ext cx="922680" cy="26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29080" y="3649680"/>
            <a:ext cx="0" cy="133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3720960"/>
            <a:ext cx="0" cy="1227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500720" y="3720960"/>
            <a:ext cx="0" cy="1182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619280" y="3662280"/>
            <a:ext cx="1440" cy="1285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20720" y="43704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43704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00720" y="42991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8360" y="455760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19640" y="4629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92720" y="4657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78400" y="4657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464080" y="46432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35720" y="4657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08800" y="46148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044720" y="595296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16000" y="5748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189080" y="5776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274760" y="5776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60440" y="6039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432080" y="6053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88960" y="6039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78040" y="566568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849320" y="5746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922400" y="58197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008080" y="58197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93760" y="5746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165400" y="5530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38480" y="54878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503360" y="609768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74640" y="61689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47720" y="61977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733400" y="61977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19440" y="6183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90720" y="5962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63800" y="59198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79640" y="58770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0920" y="59482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124000" y="5977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5977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295360" y="5962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367000" y="5977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0080" y="5934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065320" y="564660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36600" y="5718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5746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95360" y="5746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381400" y="5732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452680" y="5746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25760" y="57038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332000" y="559260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3280" y="5664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76360" y="5692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62040" y="5692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47720" y="5678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19360" y="5692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792440" y="56498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11280" y="5948280"/>
            <a:ext cx="50508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482920" y="6019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56000" y="6048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641680" y="6048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27360" y="60339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798640" y="6048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71720" y="60055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05080" y="595296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76360" y="6024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49440" y="6053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35120" y="6053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720800" y="6039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92440" y="6053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65160" y="5775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425680" y="564660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496960" y="5718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70040" y="5746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655720" y="5746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41760" y="5732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13040" y="5746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86120" y="57038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95640" y="530064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66920" y="53722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340000" y="5400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425680" y="5400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11360" y="53863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83000" y="5400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55720" y="5357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22800" y="422604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34040" y="4297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07120" y="43257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92800" y="43257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478480" y="4311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49760" y="43257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622840" y="42829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62560" y="38336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7200" y="599292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8480" y="60642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71560" y="6093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57240" y="6093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042920" y="6078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114560" y="6093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187280" y="60498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01640" y="566100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2880" y="5732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85960" y="5761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971640" y="5761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057320" y="5746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28600" y="5761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01680" y="5718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97320" y="45324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368960" y="4603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41680" y="4632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27720" y="4632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613400" y="4618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84680" y="4632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57760" y="4589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72120" y="420048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383000" y="4272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456080" y="4300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541760" y="4300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627440" y="42861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99080" y="4300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772160" y="4257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511520" y="380844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267080" y="382284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378320" y="3894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451400" y="3922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537080" y="3922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622760" y="39085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94400" y="3922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767120" y="3879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506840" y="34304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987640" y="42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627280" y="3141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700360" y="3141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771640" y="3141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4328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24000" y="1844640"/>
            <a:ext cx="5315040" cy="216000"/>
          </a:xfrm>
          <a:prstGeom prst="parallelogram">
            <a:avLst>
              <a:gd name="adj" fmla="val 4679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24000" y="2060640"/>
            <a:ext cx="4451400" cy="216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20848800">
            <a:off x="6575040" y="1953720"/>
            <a:ext cx="922320" cy="26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076720" y="692280"/>
            <a:ext cx="0" cy="122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940360" y="692280"/>
            <a:ext cx="0" cy="118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59280" y="633240"/>
            <a:ext cx="1440" cy="1285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060720" y="1341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045040" y="1341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940360" y="12700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88000" y="152892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59640" y="16002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732720" y="16286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16286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904080" y="1614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975360" y="16286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048440" y="15858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562800" y="11970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673680" y="12682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746760" y="1297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32440" y="1297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918480" y="1282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989760" y="1297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62840" y="1254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02560" y="80496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737320" y="150336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808600" y="15746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81680" y="16034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967360" y="16034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053040" y="15890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124680" y="16034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97760" y="1560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11760" y="117144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823000" y="1243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896080" y="12715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981760" y="12715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67440" y="1257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138720" y="12715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211800" y="1228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51520" y="77940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07080" y="7938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818320" y="8650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891040" y="893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977080" y="893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62760" y="879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134040" y="893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207120" y="8510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946840" y="40176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9280" y="26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, in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800600" y="145404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871880" y="1525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944960" y="1554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30640" y="1554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16680" y="15397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187960" y="1554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61040" y="15112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775040" y="112248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886280" y="11937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959360" y="12222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45040" y="12222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30720" y="12081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202360" y="12222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275440" y="11793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076720" y="476280"/>
            <a:ext cx="1800" cy="758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22840" y="148896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94120" y="1560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967200" y="15890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052880" y="15890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138560" y="15746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210200" y="15890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82920" y="15462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797280" y="11574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908520" y="1228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981600" y="1257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67280" y="1257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52960" y="1243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224240" y="1257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97320" y="12142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068720" y="547560"/>
            <a:ext cx="1800" cy="758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71480" y="31003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90520" y="357336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i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739960" y="3100320"/>
            <a:ext cx="3168720" cy="576360"/>
          </a:xfrm>
          <a:prstGeom prst="rightArrow">
            <a:avLst>
              <a:gd name="adj1" fmla="val 50000"/>
              <a:gd name="adj2" fmla="val 13744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269040" y="31082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080480" y="354024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581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e cifre che compongono il numero quinario si ottengono, iniziando da quella più a destra, calcolando il resto della divisione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[decimale]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tra le quantità di oggetti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[espressi in decimale]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e cin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pplichiamo la regola al caso appena risol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042920" y="1125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17   :  5   =  63     col resto 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042920" y="2276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63   :  5   =  12     col resto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042920" y="33577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2   :  5   =    2      col resto 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124760" y="2852640"/>
            <a:ext cx="463320" cy="536760"/>
          </a:xfrm>
          <a:prstGeom prst="upArrow">
            <a:avLst>
              <a:gd name="adj1" fmla="val 50000"/>
              <a:gd name="adj2" fmla="val 2896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124760" y="1773360"/>
            <a:ext cx="463320" cy="536400"/>
          </a:xfrm>
          <a:prstGeom prst="upArrow">
            <a:avLst>
              <a:gd name="adj1" fmla="val 50000"/>
              <a:gd name="adj2" fmla="val 2894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53006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l numero, che si legge seguendo la direzione indicata dalla freccia, è il risul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042920" y="4437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2   :  5   =     0      col resto 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164360" y="3933720"/>
            <a:ext cx="463680" cy="536760"/>
          </a:xfrm>
          <a:prstGeom prst="upArrow">
            <a:avLst>
              <a:gd name="adj1" fmla="val 50000"/>
              <a:gd name="adj2" fmla="val 2894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66600" y="301680"/>
            <a:ext cx="88930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Un dispositivo meccanico per contare palline dello stesso pes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55640" y="1341360"/>
            <a:ext cx="73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 prendano una bilancia a due piatti e un certo numero di pal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700360" y="3068640"/>
            <a:ext cx="33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284720" y="3068640"/>
            <a:ext cx="144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907640" y="3068640"/>
            <a:ext cx="792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00360" y="3068640"/>
            <a:ext cx="647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08000" y="422100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5221440" y="306864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013440" y="3068640"/>
            <a:ext cx="647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221440" y="4221000"/>
            <a:ext cx="143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6560" y="486900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 questi si distribuiscano le pal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4200" y="5724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rminata l’operazione i due piatti devono risultare in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-76320" y="692280"/>
            <a:ext cx="88203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 un foglio scrivere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zero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se tutte le palline sono sulla bil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-52560" y="227664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uno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se l’equilibrio è stato otten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50920" y="5013360"/>
            <a:ext cx="86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’operazione sarà ripetuta, con le palline di un solo piatto, fino a che non le avremo esaurite tu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034640" y="28764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ogliendone 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4:01:53Z</dcterms:created>
  <dc:creator>enrico</dc:creator>
  <dc:description/>
  <dc:language>en-US</dc:language>
  <cp:lastModifiedBy>enrico</cp:lastModifiedBy>
  <dcterms:modified xsi:type="dcterms:W3CDTF">2008-05-04T18:50:44Z</dcterms:modified>
  <cp:revision>7</cp:revision>
  <dc:subject/>
  <dc:title>Diapositiva 1</dc:title>
</cp:coreProperties>
</file>