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73F8-FD08-4EA4-BAFA-A24F4603B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1D13-D6A3-4F68-BAEA-7D4A131A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2732-33FF-401A-877D-B8F5AB65F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A0DA-3850-47E4-8084-9D0E37E78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E773-6BB1-4609-9613-5DFF67CD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B929-E8F1-4AE9-9FEA-62251473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2E18-DD55-4617-93E9-3467B8CF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4F43-0BF3-48AE-97AB-C5F20805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EB73-6ADA-4AE3-AD15-35CFA87D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5983-1407-40ED-A775-60ED5819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679F-AF6E-4755-82B3-A0420919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483B-5A4B-4B8C-8FC7-031F4C72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560E-DB49-45E8-AC25-BA6057FEE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64000" y="189000"/>
            <a:ext cx="53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 sistemi di numera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2781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ma di cominciare il cammino attraverso i sistemi di numerazione è opportuno informarvi del modo in cui lavorerete ed anche del motivo dell’organizzazione didattica adott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64000" y="189000"/>
            <a:ext cx="53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 sistemi di numera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836640"/>
            <a:ext cx="57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vorerete in gruppo per risolvere un probl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1341360"/>
            <a:ext cx="8569080" cy="5256360"/>
          </a:xfrm>
          <a:prstGeom prst="rect">
            <a:avLst/>
          </a:prstGeom>
          <a:solidFill>
            <a:srgbClr val="ebebb3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3562200"/>
            <a:ext cx="84247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ahoma"/>
              </a:rPr>
              <a:t>Immediatamente entrò nell’antro, con un grido richiamò l’attenzione del capogruppo e, dopo averlo informato con gesti e urla che all’esterno c’erano dei leoni, batté tre volte la sua lancia sul pavimento per significare la numerosità delle bel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484280"/>
            <a:ext cx="813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33"/>
                </a:solidFill>
                <a:latin typeface="Tahoma"/>
              </a:rPr>
              <a:t>Tanto, tanto tempo f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33"/>
                </a:solidFill>
                <a:latin typeface="Tahoma"/>
              </a:rPr>
              <a:t>quando l’uomo viveva ancora nelle cavern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33"/>
                </a:solidFill>
                <a:latin typeface="Tahoma"/>
              </a:rPr>
              <a:t>la sentinella che vigilava davanti alla grot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660033"/>
                </a:solidFill>
                <a:latin typeface="Tahoma"/>
              </a:rPr>
              <a:t>scorse tre leoni che si avvicinav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564000" y="189000"/>
            <a:ext cx="53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 sistemi di numera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341360"/>
            <a:ext cx="8569080" cy="5256360"/>
          </a:xfrm>
          <a:prstGeom prst="rect">
            <a:avLst/>
          </a:prstGeom>
          <a:solidFill>
            <a:srgbClr val="ebebb3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1557360"/>
            <a:ext cx="792000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ahoma"/>
              </a:rPr>
              <a:t>Nel fatto narrato esiste un’attività di tipo matema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ahoma"/>
              </a:rPr>
              <a:t>E’ lecito chieder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Tahoma"/>
              </a:rPr>
              <a:t>“</a:t>
            </a:r>
            <a:r>
              <a:rPr b="1" lang="en-US" sz="3600" spc="-1" strike="noStrike">
                <a:solidFill>
                  <a:srgbClr val="660033"/>
                </a:solidFill>
                <a:latin typeface="Tahoma"/>
              </a:rPr>
              <a:t>Dove comincia la matematica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8160" y="4076640"/>
            <a:ext cx="432000" cy="360360"/>
          </a:xfrm>
          <a:prstGeom prst="irregularSeal1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95480" y="4181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26920" y="4508640"/>
            <a:ext cx="432000" cy="360360"/>
          </a:xfrm>
          <a:prstGeom prst="irregularSeal1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11240" y="4957920"/>
            <a:ext cx="431640" cy="360360"/>
          </a:xfrm>
          <a:prstGeom prst="irregularSeal1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15960" y="6165720"/>
            <a:ext cx="432000" cy="360360"/>
          </a:xfrm>
          <a:prstGeom prst="irregularSeal1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40053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Dai leon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19280" y="4437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Dal gri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35280" y="486900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Dal ges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5445000"/>
            <a:ext cx="432000" cy="360360"/>
          </a:xfrm>
          <a:prstGeom prst="irregularSeal1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5373720"/>
            <a:ext cx="48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Dal rumore prodotto dalla lanc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95640" y="6093000"/>
            <a:ext cx="66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0033"/>
                </a:solidFill>
                <a:latin typeface="Tahoma"/>
              </a:rPr>
              <a:t>…</a:t>
            </a:r>
            <a:r>
              <a:rPr b="0" lang="it-IT" sz="2400" spc="-1" strike="noStrike">
                <a:solidFill>
                  <a:srgbClr val="660033"/>
                </a:solidFill>
                <a:latin typeface="Tahoma"/>
              </a:rPr>
              <a:t>tutto è matematica: essa non ha inizi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564000" y="189000"/>
            <a:ext cx="53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 sistemi di numera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1268280"/>
            <a:ext cx="8496000" cy="543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Dovete concludere il lavoro in mezz’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Preparatevi a comunicare ai compagni la vostra soluzi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Per rendere più efficace la descrizione della vostra attività, presenterete visivamente i punti essenziali del percorso che avete seguito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6:20:15Z</dcterms:created>
  <dc:creator>enrico</dc:creator>
  <dc:description/>
  <dc:language>en-US</dc:language>
  <cp:lastModifiedBy>enrico</cp:lastModifiedBy>
  <dcterms:modified xsi:type="dcterms:W3CDTF">2008-04-11T16:56:24Z</dcterms:modified>
  <cp:revision>2</cp:revision>
  <dc:subject/>
  <dc:title>Diapositiva 1</dc:title>
</cp:coreProperties>
</file>