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D9E4-8F3B-4048-94ED-FF0EDB055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C310-8B72-40CA-9F2F-600155F98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ED68-ECA6-44DD-9810-6679A5CDB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8D3D9-001C-4253-9ACB-CC564D9D7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3A69-4EB6-47DB-995C-4AA010E2A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5ADDE-CFCE-4661-9069-C000A0A97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80C64-FE68-40E8-835B-C29DBC914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B030B-F3E5-4AEA-B71C-9B723340F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4F4B-C255-4376-927C-9E3F51D63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61C05-DBD6-47E7-A380-F53690DC6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BDF3-1CA7-429C-81EF-FD041C39D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57E97-9E50-4888-BB41-43BEE7C35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5D86E-24C5-4929-871D-415BC7B7AF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49320" y="0"/>
            <a:ext cx="2376360" cy="54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99ff"/>
                    </a:gs>
                    <a:gs pos="100000">
                      <a:srgbClr val="cc3300"/>
                    </a:gs>
                  </a:gsLst>
                  <a:path path="rect">
                    <a:fillToRect l="50000" t="50000" r="50000" b="50000"/>
                  </a:path>
                </a:gradFill>
                <a:latin typeface="Impact"/>
              </a:rPr>
              <a:t>la lettura del pensier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99ff"/>
                  </a:gs>
                  <a:gs pos="100000">
                    <a:srgbClr val="cc3300"/>
                  </a:gs>
                </a:gsLst>
                <a:path path="rect">
                  <a:fillToRect l="50000" t="50000" r="50000" b="50000"/>
                </a:path>
              </a:gradFill>
              <a:latin typeface="Impact"/>
              <a:ea typeface="Impact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116000" y="476280"/>
            <a:ext cx="379440" cy="26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33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2°</a:t>
            </a:r>
            <a:endParaRPr b="0" lang="en-US" sz="4400" spc="1" strike="noStrike">
              <a:ln w="12600">
                <a:solidFill>
                  <a:srgbClr val="3333cc"/>
                </a:solidFill>
                <a:miter/>
              </a:ln>
              <a:solidFill>
                <a:srgbClr val="ff33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3" name=""/>
          <p:cNvSpPr/>
          <p:nvPr/>
        </p:nvSpPr>
        <p:spPr>
          <a:xfrm>
            <a:off x="1835280" y="1270080"/>
            <a:ext cx="496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Sommate le cifre che sono più in alto di ogni carta che vi è stata riconsegn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47640" y="1125360"/>
            <a:ext cx="5545440" cy="1440000"/>
          </a:xfrm>
          <a:prstGeom prst="rect">
            <a:avLst/>
          </a:prstGeom>
          <a:noFill/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564000" y="2565360"/>
            <a:ext cx="136836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908000" y="3068640"/>
            <a:ext cx="45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16     8      4     2    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32000" y="4508640"/>
            <a:ext cx="5315040" cy="215640"/>
          </a:xfrm>
          <a:prstGeom prst="parallelogram">
            <a:avLst>
              <a:gd name="adj" fmla="val 468763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rot="20848800">
            <a:off x="5783040" y="4617720"/>
            <a:ext cx="922320" cy="26352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332000" y="4724280"/>
            <a:ext cx="4451400" cy="2160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013440" y="3716280"/>
            <a:ext cx="0" cy="863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76720" y="3759120"/>
            <a:ext cx="0" cy="863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284720" y="3789360"/>
            <a:ext cx="0" cy="793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148360" y="3716280"/>
            <a:ext cx="0" cy="8222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042920" y="5805360"/>
            <a:ext cx="13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22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332000" y="623736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(decim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508720" y="580536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101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443640" y="6265800"/>
            <a:ext cx="17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(binari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268360" y="3789360"/>
            <a:ext cx="0" cy="793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040280" y="4206960"/>
            <a:ext cx="504720" cy="431640"/>
          </a:xfrm>
          <a:prstGeom prst="can">
            <a:avLst>
              <a:gd name="adj" fmla="val 25000"/>
            </a:avLst>
          </a:prstGeom>
          <a:solidFill>
            <a:srgbClr val="ffcc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111560" y="4278240"/>
            <a:ext cx="0" cy="34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184640" y="430704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270320" y="430704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356000" y="429264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7640" y="430704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484520" y="429264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903920" y="4164120"/>
            <a:ext cx="504720" cy="431640"/>
          </a:xfrm>
          <a:prstGeom prst="can">
            <a:avLst>
              <a:gd name="adj" fmla="val 25000"/>
            </a:avLst>
          </a:prstGeom>
          <a:solidFill>
            <a:srgbClr val="ffcc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975200" y="423540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48280" y="426420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33960" y="426420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219640" y="424980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91280" y="426420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64000" y="4221000"/>
            <a:ext cx="0" cy="34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038320" y="4206960"/>
            <a:ext cx="504720" cy="431640"/>
          </a:xfrm>
          <a:prstGeom prst="can">
            <a:avLst>
              <a:gd name="adj" fmla="val 25000"/>
            </a:avLst>
          </a:prstGeom>
          <a:solidFill>
            <a:srgbClr val="ffcc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109960" y="4278240"/>
            <a:ext cx="0" cy="34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182680" y="430704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268360" y="430704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354400" y="429264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425680" y="430704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482920" y="429264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68360" y="400536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284720" y="400536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148360" y="393372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556000" y="5834160"/>
            <a:ext cx="2520720" cy="503280"/>
          </a:xfrm>
          <a:prstGeom prst="leftRightArrow">
            <a:avLst>
              <a:gd name="adj1" fmla="val 50000"/>
              <a:gd name="adj2" fmla="val 99708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5T19:35:15Z</dcterms:created>
  <dc:creator>enrico</dc:creator>
  <dc:description/>
  <dc:language>en-US</dc:language>
  <cp:lastModifiedBy>enrico</cp:lastModifiedBy>
  <dcterms:modified xsi:type="dcterms:W3CDTF">2008-04-26T07:59:24Z</dcterms:modified>
  <cp:revision>5</cp:revision>
  <dc:subject/>
  <dc:title>Diapositiva 1</dc:title>
</cp:coreProperties>
</file>