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A7AE-726D-41EF-B411-9FA9514D6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5E11-3821-4E7E-AA7F-000424952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7436-46D2-43B2-AFFF-CCA709C03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7ABB-42D0-4E16-A321-831D91967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A580-A8C8-4EBA-8F2D-A46316E74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4CC9-1C05-4029-A423-7312FA93E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82D0-B931-4837-8D30-49E6AE93A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BA0C-AF8D-4FAC-B823-F28263789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27A2-72B3-4906-9B92-C53BE1E21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F728-F921-4ADD-8003-A74FB426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E981-52D1-407F-8011-8D4538DE3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02C6-E9BD-43ED-B46A-4332ECC89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34788-FCE6-4143-B29F-A6E0F919EF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403280" y="260280"/>
          <a:ext cx="6192720" cy="6337080"/>
        </p:xfrm>
        <a:graphic>
          <a:graphicData uri="http://schemas.openxmlformats.org/drawingml/2006/table">
            <a:tbl>
              <a:tblPr/>
              <a:tblGrid>
                <a:gridCol w="904680"/>
                <a:gridCol w="813240"/>
                <a:gridCol w="880200"/>
                <a:gridCol w="905040"/>
                <a:gridCol w="904680"/>
                <a:gridCol w="905040"/>
                <a:gridCol w="879840"/>
              </a:tblGrid>
              <a:tr h="1495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806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7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6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7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7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6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2484360" y="191628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348000" y="191628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211640" y="1924200"/>
            <a:ext cx="43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076720" y="191628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27840" y="1901880"/>
            <a:ext cx="43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948360" y="188748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70320" y="2637000"/>
            <a:ext cx="43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55920" y="3429000"/>
            <a:ext cx="43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470320" y="4371840"/>
            <a:ext cx="43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4360" y="507060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84360" y="587700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348000" y="264312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349800" y="3357720"/>
            <a:ext cx="57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48000" y="4371840"/>
            <a:ext cx="3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076720" y="2673360"/>
            <a:ext cx="3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12000" y="263700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03640" y="587700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732720" y="263700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211640" y="342900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888080" y="3406680"/>
            <a:ext cx="7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5640" y="4365720"/>
            <a:ext cx="7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96000" y="343548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2360" y="437184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067280" y="595620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04000" y="341460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46760" y="512928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04000" y="436572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881680" y="511344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867280" y="595008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04000" y="508464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659640" y="587700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4T17:33:59Z</dcterms:created>
  <dc:creator>enrico</dc:creator>
  <dc:description/>
  <dc:language>en-US</dc:language>
  <cp:lastModifiedBy>enrico</cp:lastModifiedBy>
  <dcterms:modified xsi:type="dcterms:W3CDTF">2008-04-14T20:28:53Z</dcterms:modified>
  <cp:revision>2</cp:revision>
  <dc:subject/>
  <dc:title>Diapositiva 1</dc:title>
</cp:coreProperties>
</file>