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B9F-39CA-45BD-85B5-DCAAC080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943-FB51-42A6-BF0B-2DCC791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81A-AF8E-4831-BE66-AC34B5AE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3A9-CF1E-4DBD-9D6D-8F79F000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E62-37C3-4A52-B856-74757C39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A9C-FA37-413B-9E04-849E87B0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A25-8079-4773-96B2-0120BF6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3CC-4791-4020-9418-088B7A9C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CE3-6E70-438B-BCA6-3BF9775F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870-187C-4C1D-8309-B7264FC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E69-6B35-4AD5-961A-7A36ACB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D1F-6F29-4357-835C-F6CD9F2C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6881-B751-4D49-A330-206EB45D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pperplate Gothic Bold"/>
              </a:rPr>
              <a:t>Nel momento in cui il guardiano ha fissato la sua attenzione sulla numerosità dell’insieme dei leoni, allo scopo di informare il capogruppo, è iniziata un’attività di tipo matem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645000"/>
            <a:ext cx="849600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L’uomo, per risolvere il suo problema, ha rid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pperplate Gothic Bold"/>
              </a:rPr>
              <a:t>LE COSE DE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pperplate Gothic Bold"/>
              </a:rPr>
              <a:t>OGGETTI MATE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89000"/>
            <a:ext cx="8424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Allo stesso modo, se il problema fosse stato la descrizione del manto o della forma delle belve, il risultato sarebbe stato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“</a:t>
            </a: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OGGETTO”</a:t>
            </a: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delle scienze natur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653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Gli </a:t>
            </a: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oggetti disciplinari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sono i risultati delle trasformazioni operate sulle </a:t>
            </a: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cose del mondo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dal risolutore di proble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89000"/>
            <a:ext cx="8424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Allo stesso modo, se il problema fosse stato la descrizione del manto o della forma delle belve, il risultato sarebbe stato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“</a:t>
            </a: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OGGETTO”</a:t>
            </a: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delle scienze natur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653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Gli </a:t>
            </a: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oggetti disciplinari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sono i risultati delle trasformazioni operate sulle </a:t>
            </a:r>
            <a:r>
              <a:rPr b="1" lang="en-US" sz="2800" spc="-1" strike="noStrike">
                <a:solidFill>
                  <a:srgbClr val="cc3300"/>
                </a:solidFill>
                <a:latin typeface="Copperplate Gothic Bold"/>
              </a:rPr>
              <a:t>cose del mondo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dal risolutore di proble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pperplate Gothic Bold"/>
              </a:rPr>
              <a:t>DAI PROBLEMI  NASCONO LE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97000"/>
            <a:ext cx="8496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pperplate Gothic Bold"/>
              </a:rPr>
              <a:t>Supponiamo di possedere l’insieme dei numeri naturali, “scritti” nel modo che per noi è abi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pperplate Gothic Bold"/>
              </a:rPr>
              <a:t>0 , 1 , 2 , 3 ….. 38  …41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6120" y="4405320"/>
            <a:ext cx="882036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Copperplate Gothic Bold"/>
              </a:rPr>
              <a:t>SE LI OSSERVIAMO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Copperplate Gothic Bold"/>
              </a:rPr>
              <a:t>SE OPERIAMO CON ESSI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Copperplate Gothic Bold"/>
              </a:rPr>
              <a:t>RIUSCIAMO A COGLIERE NUOV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30760" y="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Copperplate Gothic Bold"/>
              </a:rPr>
              <a:t>RIUSCIAMO A COGLIERE NUOV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21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Annotando   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-  le osserv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-  i risultati dei raggrupp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-  i risultati delle scomposi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8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Individuando regola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45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ormulando ipo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69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ntrollando i 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4972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. .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straendo le informazioni contenute negli err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1341360"/>
            <a:ext cx="738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OTTENENDO NU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pperplate Gothic Bold"/>
              </a:rPr>
              <a:t>OGGETTI DISCIPLI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Ad esemp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le operazioni aritmetich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27280" y="260280"/>
            <a:ext cx="2232000" cy="230364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pperplate Gothic Bold"/>
              </a:rPr>
              <a:t>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4076640"/>
            <a:ext cx="2232000" cy="230364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pperplate Gothic Bold"/>
              </a:rPr>
              <a:t>argo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565360"/>
            <a:ext cx="2232000" cy="230364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Me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pperplate Gothic Bold"/>
              </a:rPr>
              <a:t>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320600">
            <a:off x="4284720" y="259920"/>
            <a:ext cx="3959280" cy="2441520"/>
          </a:xfrm>
          <a:custGeom>
            <a:avLst/>
            <a:gdLst>
              <a:gd name="textAreaLeft" fmla="*/ 0 w 3959280"/>
              <a:gd name="textAreaRight" fmla="*/ 3959640 w 3959280"/>
              <a:gd name="textAreaTop" fmla="*/ 0 h 2441520"/>
              <a:gd name="textAreaBottom" fmla="*/ 2441880 h 2441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996306"/>
                <a:lnTo>
                  <a:pt x="1453" y="5390"/>
                </a:lnTo>
                <a:arcTo wR="10800" hR="10800" stAng="-8996306" swAng="899630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691400">
            <a:off x="-502200" y="1591200"/>
            <a:ext cx="4525920" cy="2584440"/>
          </a:xfrm>
          <a:custGeom>
            <a:avLst/>
            <a:gdLst>
              <a:gd name="textAreaLeft" fmla="*/ 0 w 4525920"/>
              <a:gd name="textAreaRight" fmla="*/ 4525920 w 4525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422967"/>
                <a:lnTo>
                  <a:pt x="855" y="6589"/>
                </a:lnTo>
                <a:arcTo wR="10800" hR="10800" stAng="-9422967" swAng="942296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6761400">
            <a:off x="3286800" y="2174040"/>
            <a:ext cx="3925800" cy="4784400"/>
          </a:xfrm>
          <a:custGeom>
            <a:avLst/>
            <a:gdLst>
              <a:gd name="textAreaLeft" fmla="*/ 0 w 3925800"/>
              <a:gd name="textAreaRight" fmla="*/ 3925800 w 3925800"/>
              <a:gd name="textAreaTop" fmla="*/ 0 h 4784400"/>
              <a:gd name="textAreaBottom" fmla="*/ 4784760 h 4784400"/>
            </a:gdLst>
            <a:ahLst/>
            <a:rect l="textAreaLeft" t="textAreaTop" r="textAreaRight" b="textAreaBottom"/>
            <a:pathLst>
              <a:path w="21600" h="21600">
                <a:moveTo>
                  <a:pt x="4787" y="10000"/>
                </a:moveTo>
                <a:arcTo wR="-6066" hR="-6066" stAng="-10345370" swAng="-6390910"/>
                <a:lnTo>
                  <a:pt x="9122" y="131"/>
                </a:lnTo>
                <a:arcTo wR="10800" hR="10800" stAng="-5936280" swAng="6390910"/>
                <a:lnTo>
                  <a:pt x="24182" y="12580"/>
                </a:lnTo>
                <a:lnTo>
                  <a:pt x="18491" y="16935"/>
                </a:lnTo>
                <a:lnTo>
                  <a:pt x="14137" y="11244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125360"/>
            <a:ext cx="806436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pperplate Gothic Bold"/>
              </a:rPr>
              <a:t>LA CONOSCENZA</a:t>
            </a:r>
            <a:r>
              <a:rPr b="0" lang="en-US" sz="3200" spc="-1" strike="noStrike">
                <a:solidFill>
                  <a:srgbClr val="663300"/>
                </a:solidFill>
                <a:latin typeface="Copperplate Gothic Bol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pperplate Gothic Bold"/>
              </a:rPr>
              <a:t>SE NON  E’ ACCOMPAGNATA DAL PROBLEMA E DALLE REGOLE CHE L’ANNO GENER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pperplate Gothic Bold"/>
              </a:rPr>
              <a:t>È   SOSTANZA  MO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300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Bradley Hand ITC"/>
              </a:rPr>
              <a:t>Albert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0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A scuola parliamo di materie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577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Copperplate Gothic Bold"/>
              </a:rPr>
              <a:t>Una materia è una selezione di problemi, metodi e argomenti operata in campo/i disciplinare/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19640" y="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pperplate Gothic Bold"/>
              </a:rPr>
              <a:t>Come lavorer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7640" y="692280"/>
            <a:ext cx="30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Lavoro di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72080" y="836640"/>
            <a:ext cx="287280" cy="28728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1440" y="1197000"/>
            <a:ext cx="287280" cy="28728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73520" y="1932120"/>
            <a:ext cx="287280" cy="28728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6251400"/>
            <a:ext cx="287280" cy="28764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65600" y="2781360"/>
            <a:ext cx="287280" cy="28728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65560" y="109224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conduce all’appl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l metodo disciplin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1868400"/>
            <a:ext cx="44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Facilita l’individuazione di alcune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05160" y="267660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bitua alla collabo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7480" y="339552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nter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94040" y="4998960"/>
            <a:ext cx="287280" cy="28728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221000"/>
            <a:ext cx="287280" cy="28764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3468600"/>
            <a:ext cx="287280" cy="28728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414972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opone punti di vista div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486900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oduce una sintesi più ricca del singolo lavoro di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326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sistemat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84640" y="73656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genera i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337968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pperplate Gothic Bold"/>
              </a:rPr>
              <a:t>affina la capacita’ di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9280" y="6156360"/>
            <a:ext cx="49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Presenta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7:06:40Z</dcterms:created>
  <dc:creator>enrico</dc:creator>
  <dc:description/>
  <dc:language>en-US</dc:language>
  <cp:lastModifiedBy>enrico</cp:lastModifiedBy>
  <dcterms:modified xsi:type="dcterms:W3CDTF">2008-04-23T15:30:36Z</dcterms:modified>
  <cp:revision>9</cp:revision>
  <dc:subject/>
  <dc:title>Diapositiva 1</dc:title>
</cp:coreProperties>
</file>