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88F-211A-4F40-8534-68606CFB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F13-01C4-4C98-94C7-E54FD547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D0D-5F58-452F-BD22-76707EF9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E65-6763-4765-A1AE-8BC1F816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329-2B1C-4798-9B58-41161D80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935-180D-4139-A734-858FB5D3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807-8494-4CA6-9791-5A06F71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070-6EC4-4A31-9FA9-C4703F6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68E-F03F-40F9-8182-518D7115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9BA-24AE-42C4-9E24-0273D547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C37-CBD9-4A63-9C7A-2F079229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0BE-E447-4987-AD66-D36C277B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442-5E41-43AD-ABF4-789664488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332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La ricerca della risposta al problema della bilancia è facilitata dal riconoscimento dei caratteri, delle particolarità, della  situ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6800" y="160200"/>
            <a:ext cx="107964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89000"/>
            <a:ext cx="0" cy="79200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244520" y="146160"/>
            <a:ext cx="303120" cy="64764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46160"/>
            <a:ext cx="360360" cy="64764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793800"/>
            <a:ext cx="64908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78920" y="146160"/>
            <a:ext cx="303480" cy="64764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2760" y="146160"/>
            <a:ext cx="360360" cy="64764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3680" y="793800"/>
            <a:ext cx="64944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9560" y="409104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La bilancia  può assumere due soli </a:t>
            </a:r>
            <a:r>
              <a:rPr b="1" i="1" lang="en-US" sz="3200" spc="-1" strike="noStrike">
                <a:solidFill>
                  <a:srgbClr val="660033"/>
                </a:solidFill>
                <a:latin typeface="Arial Black"/>
              </a:rPr>
              <a:t>stati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equilibrio/disequilibrio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[0/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2200" y="553068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00101 descrive l’evoluzione del </a:t>
            </a:r>
            <a:r>
              <a:rPr b="1" i="1" lang="en-US" sz="3200" spc="-1" strike="noStrike">
                <a:solidFill>
                  <a:srgbClr val="660033"/>
                </a:solidFill>
                <a:latin typeface="Arial Black"/>
              </a:rPr>
              <a:t>processo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di pes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270828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La bilancia effettua, meccanicamente, la divisione per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6800" y="231840"/>
            <a:ext cx="107964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60280"/>
            <a:ext cx="0" cy="79236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244520" y="217440"/>
            <a:ext cx="303120" cy="64764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217440"/>
            <a:ext cx="360360" cy="64764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865080"/>
            <a:ext cx="64908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78920" y="217440"/>
            <a:ext cx="303480" cy="64764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2760" y="217440"/>
            <a:ext cx="360360" cy="64764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3680" y="865080"/>
            <a:ext cx="64944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434880"/>
            <a:ext cx="70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Il compito assegnato consisteva nella ricerca del significato del numero 100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63700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33"/>
                </a:solidFill>
                <a:latin typeface="Arial"/>
              </a:rPr>
              <a:t>Si tratta di un numero che esprime la quantità di palline  in un  sistema di numerazione con due soli simbo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660033"/>
                </a:solidFill>
                <a:latin typeface="Arial"/>
              </a:rPr>
              <a:t>[binario]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797360"/>
            <a:ext cx="8136000" cy="165600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941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544500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001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58374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[binari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5486400"/>
            <a:ext cx="1368720" cy="503280"/>
          </a:xfrm>
          <a:prstGeom prst="rightArrow">
            <a:avLst>
              <a:gd name="adj1" fmla="val 50000"/>
              <a:gd name="adj2" fmla="val 67990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5300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98760" y="58611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[decimal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5:25:30Z</dcterms:created>
  <dc:creator>enrico</dc:creator>
  <dc:description/>
  <dc:language>en-US</dc:language>
  <cp:lastModifiedBy>enrico</cp:lastModifiedBy>
  <dcterms:modified xsi:type="dcterms:W3CDTF">2008-04-25T17:28:24Z</dcterms:modified>
  <cp:revision>3</cp:revision>
  <dc:subject/>
  <dc:title>Diapositiva 1</dc:title>
</cp:coreProperties>
</file>