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28.wmf" ContentType="image/x-wmf"/>
  <Override PartName="/ppt/media/LASER.WAV" ContentType="audio/x-wav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projctor.wav" ContentType="audio/x-wav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E279-6718-4C6F-8571-1115EFEE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BD72-D474-40F8-884B-A55D49DD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BF51-C830-497E-B905-C0133197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7D3-563E-4946-A4F3-2DE818C9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DC26-F97E-4298-B04A-1CC9D6A0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269F-9EE4-4461-9018-B8CFBBFB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82F4-7A2D-49E7-B8E9-A1C70D02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A903-77DF-4784-81E8-029C45D0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F273-CEDF-4D3D-B335-C7DF04EC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9DB0-C4C4-4ECA-8D8D-05BDE6D0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C7C0-B22B-46A5-A9F8-6FD343A2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2399-3C12-48DA-9A5D-CB233EA4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38CA-6FCB-4803-BAEC-7A480885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BDC7-CD7F-47A4-AECD-F21BFE8B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C46C-B4FA-4EC0-8216-A29CDEC4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E802-EC5A-4426-9C47-C7DB5C43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575B-8B0D-4707-B07E-4125B316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3859-1E7B-4AEF-9DE9-7FB7DF58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9C0-379C-458C-806B-3355FCDA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E213-3DB6-4AFA-8272-139A670E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E5AA-F3E5-4DED-BCFD-F8B88838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60BE-44AC-4C30-A495-0F403710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0F82-B48F-4CF5-AC83-69E77C25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B6BC-FFF6-4062-89F7-6778830E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C0B6-066C-4368-B65B-D99AF7BB83D8}" type="datetime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6C6E-3E08-4763-BE20-F3138AB38977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C157-2551-4319-B855-387ED4063EC9}" type="datetime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2BF2-21F8-4244-9F9D-FAF28BD01EF9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5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1640" y="1365840"/>
            <a:ext cx="3962520" cy="6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66cc"/>
                </a:solidFill>
                <a:latin typeface="Baskerville Old Face"/>
              </a:rPr>
              <a:t>Derive 5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26560" y="4653000"/>
            <a:ext cx="230508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66cc"/>
                </a:solidFill>
                <a:latin typeface="Brush Script MT"/>
              </a:rPr>
              <a:t>di Stefania Mannar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68360" y="549360"/>
          <a:ext cx="390852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390852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3"/>
          <a:srcRect l="0" t="0" r="0" b="5512"/>
          <a:stretch/>
        </p:blipFill>
        <p:spPr>
          <a:xfrm>
            <a:off x="4356000" y="2565360"/>
            <a:ext cx="4248360" cy="335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udio di funzione con Derive 5                            di Stefania Mannara (SICSI VI CICLO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F73F-C70A-49B9-BA07-C726573DE33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89DACED-72CC-421C-952E-88CDF0A50BCF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153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66cc"/>
                </a:solidFill>
                <a:latin typeface="Baskerville Old Face"/>
              </a:rPr>
              <a:t>Come si lavor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6600"/>
                </a:solidFill>
                <a:latin typeface="Baskerville Old Face"/>
              </a:rPr>
              <a:t>La barra</a:t>
            </a:r>
            <a:r>
              <a:rPr b="0" lang="it-IT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it-IT" sz="2700" spc="-1" strike="noStrike">
                <a:solidFill>
                  <a:srgbClr val="0066cc"/>
                </a:solidFill>
                <a:latin typeface="Baskerville Old Face"/>
              </a:rPr>
              <a:t>INSERISCI ESPRESSION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95280" y="5273640"/>
          <a:ext cx="8424720" cy="15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273640"/>
                    <a:ext cx="84247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" descr=""/>
          <p:cNvPicPr/>
          <p:nvPr/>
        </p:nvPicPr>
        <p:blipFill>
          <a:blip r:embed="rId3"/>
          <a:srcRect l="0" t="0" r="0" b="4724"/>
          <a:stretch/>
        </p:blipFill>
        <p:spPr>
          <a:xfrm>
            <a:off x="3924360" y="1341360"/>
            <a:ext cx="4751280" cy="352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io di funzione con Derive 5                            di Stefania Mannara (SICSI VI CICLO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339D-6DE7-4DE1-A018-5BD54C4005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0C87B-6B04-497C-AA9F-61B99B84F8C8}" type="datetime1">
              <a:rPr lang="en-US"/>
              <a:t>07/31/26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526680"/>
            <a:ext cx="81532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66cc"/>
                </a:solidFill>
                <a:latin typeface="Baskerville Old Face"/>
              </a:rPr>
              <a:t>Come</a:t>
            </a:r>
            <a:r>
              <a:rPr b="0" lang="it-IT" sz="4400" spc="-1" strike="noStrike">
                <a:solidFill>
                  <a:srgbClr val="0066cc"/>
                </a:solidFill>
                <a:latin typeface="Baskerville Old Face"/>
              </a:rPr>
              <a:t> </a:t>
            </a:r>
            <a:r>
              <a:rPr b="1" lang="it-IT" sz="4400" spc="-1" strike="noStrike">
                <a:solidFill>
                  <a:srgbClr val="0066cc"/>
                </a:solidFill>
                <a:latin typeface="Baskerville Old Face"/>
              </a:rPr>
              <a:t>si lavor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4640" y="1219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Baskerville Old Face"/>
              </a:rPr>
              <a:t>Per attivare la barra us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Baskerville Old Face"/>
              </a:rPr>
              <a:t>la barra dei menu attraverso </a:t>
            </a:r>
            <a:r>
              <a:rPr b="0" i="1" lang="it-IT" sz="2400" spc="-1" strike="noStrike">
                <a:solidFill>
                  <a:srgbClr val="ff6600"/>
                </a:solidFill>
                <a:latin typeface="Baskerville Old Face"/>
              </a:rPr>
              <a:t>CREA – ESPRESSIONE</a:t>
            </a:r>
            <a:r>
              <a:rPr b="0" lang="it-IT" sz="2400" spc="-1" strike="noStrike">
                <a:solidFill>
                  <a:srgbClr val="ff6600"/>
                </a:solidFill>
                <a:latin typeface="Baskerville Old Face"/>
              </a:rPr>
              <a:t> (come da figu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Baskerville Old Face"/>
              </a:rPr>
              <a:t>la barra degli strumenti attraverso il  pulsante </a:t>
            </a:r>
            <a:r>
              <a:rPr b="0" i="1" lang="it-IT" sz="2400" spc="-1" strike="noStrike">
                <a:solidFill>
                  <a:srgbClr val="ff6600"/>
                </a:solidFill>
                <a:latin typeface="Baskerville Old Face"/>
              </a:rPr>
              <a:t>INSERISCI ESPRESSIONE</a:t>
            </a:r>
            <a:r>
              <a:rPr b="0" lang="it-IT" sz="2400" spc="-1" strike="noStrike">
                <a:solidFill>
                  <a:srgbClr val="ff6600"/>
                </a:solidFill>
                <a:latin typeface="Baskerville Old Face"/>
              </a:rPr>
              <a:t> (l’icona è la seguen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Baskerville Old Face"/>
              </a:rPr>
              <a:t> </a:t>
            </a:r>
            <a:r>
              <a:rPr b="0" lang="it-IT" sz="2400" spc="-1" strike="noStrike">
                <a:solidFill>
                  <a:srgbClr val="ff6600"/>
                </a:solidFill>
                <a:latin typeface="Baskerville Old Face"/>
              </a:rPr>
              <a:t>si digita il testo della espressione e INVIO per inserire nell’area di lav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564000" y="2133720"/>
          <a:ext cx="331164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133720"/>
                    <a:ext cx="331164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364000" y="4292640"/>
          <a:ext cx="3240360" cy="69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4292640"/>
                    <a:ext cx="324036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io di funzione con Derive 5                            di Stefania Mannara (SICSI VI CICLO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3B8F-DEA1-4AE2-8CA3-5025A1B3B9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292C0-114E-45AB-851F-96B081D85972}" type="datetime1">
              <a:rPr lang="en-US"/>
              <a:t>07/31/26</a:t>
            </a:fld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66cc"/>
                </a:solidFill>
                <a:latin typeface="Baskerville Old Face"/>
              </a:rPr>
              <a:t>L’AREA di LAVOR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Baskerville Old Face"/>
              </a:rPr>
              <a:t>Tutte le espressioni digitate tramite la barra</a:t>
            </a:r>
            <a:r>
              <a:rPr b="0" lang="it-IT" sz="20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it-IT" sz="2000" spc="-1" strike="noStrike">
                <a:solidFill>
                  <a:srgbClr val="0066cc"/>
                </a:solidFill>
                <a:latin typeface="Baskerville Old Face"/>
              </a:rPr>
              <a:t>INSERISCI ESPRESSIONE</a:t>
            </a:r>
            <a:r>
              <a:rPr b="0" lang="it-IT" sz="20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it-IT" sz="2000" spc="-1" strike="noStrike">
                <a:solidFill>
                  <a:srgbClr val="ff6600"/>
                </a:solidFill>
                <a:latin typeface="Baskerville Old Face"/>
              </a:rPr>
              <a:t>vengono contraddistinte da un numero preceduto dal simbolo # (cancellett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Times New Roman"/>
              </a:rPr>
              <a:t>L’espressione selezionata è evidenziata come in fig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859280" y="1916280"/>
          <a:ext cx="3024360" cy="59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916280"/>
                    <a:ext cx="302436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" descr=""/>
          <p:cNvPicPr/>
          <p:nvPr/>
        </p:nvPicPr>
        <p:blipFill>
          <a:blip r:embed="rId3"/>
          <a:srcRect l="0" t="0" r="0" b="4724"/>
          <a:stretch/>
        </p:blipFill>
        <p:spPr>
          <a:xfrm>
            <a:off x="4859280" y="3068640"/>
            <a:ext cx="4000680" cy="30002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4360" y="4119120"/>
            <a:ext cx="367164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6600"/>
                </a:solidFill>
                <a:uFillTx/>
                <a:latin typeface="Baskerville Old Face"/>
              </a:rPr>
              <a:t>ES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Baskerville Old Face"/>
              </a:rPr>
              <a:t>“</a:t>
            </a:r>
            <a:r>
              <a:rPr b="0" lang="en-US" sz="1800" spc="-1" strike="noStrike">
                <a:solidFill>
                  <a:srgbClr val="ff6600"/>
                </a:solidFill>
                <a:latin typeface="Baskerville Old Face"/>
              </a:rPr>
              <a:t>USCITA DI EMERGENZA” nel caso non si sappia andare avanti o si voglia interrompere un calcolo lung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io di funzione con Derive 5                            di Stefania Mannara (SICSI VI CICLO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94B6-B2FB-4E91-BC28-083F7668FBF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19284-91EE-4C4D-9098-E34D61C8831A}" type="datetime1">
              <a:rPr lang="en-US"/>
              <a:t>07/31/26</a:t>
            </a:fld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n-US" sz="4000" spc="-1" strike="noStrike">
                <a:solidFill>
                  <a:srgbClr val="0066cc"/>
                </a:solidFill>
                <a:latin typeface="Baskerville Old Face"/>
              </a:rPr>
              <a:t>CANCELLARE UN ESPRESSIO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1989000"/>
            <a:ext cx="4000320" cy="3816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0" t="0" r="0" b="15748"/>
          <a:stretch/>
        </p:blipFill>
        <p:spPr>
          <a:xfrm>
            <a:off x="4686480" y="1989000"/>
            <a:ext cx="4000320" cy="38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io di funzione con Derive 5                            di Stefania Mannara (SICSI VI CICLO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DAD0-FA6E-42FD-820D-642D718E12B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F8721-F429-4EC3-BC5B-6143490E803F}" type="datetime1">
              <a:rPr lang="en-US"/>
              <a:t>07/31/26</a:t>
            </a:fld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333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Baskerville Old Face"/>
              </a:rPr>
              <a:t> </a:t>
            </a:r>
            <a:r>
              <a:rPr b="1" lang="en-US" sz="3600" spc="-1" strike="noStrike">
                <a:solidFill>
                  <a:srgbClr val="0066cc"/>
                </a:solidFill>
                <a:latin typeface="Baskerville Old Face"/>
              </a:rPr>
              <a:t>SEMPLIFICARE UN ESPRESSI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3000"/>
          <a:stretch/>
        </p:blipFill>
        <p:spPr>
          <a:xfrm>
            <a:off x="468360" y="1197000"/>
            <a:ext cx="4751280" cy="2100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364000" y="1268280"/>
            <a:ext cx="420372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1d14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Semplifica -B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semplifica  algebricamente l’espressione e fornisce il risultato esatto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rcRect l="0" t="0" r="0" b="23622"/>
          <a:stretch/>
        </p:blipFill>
        <p:spPr>
          <a:xfrm>
            <a:off x="684360" y="3573360"/>
            <a:ext cx="2665440" cy="2303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rcRect l="0" t="0" r="0" b="55126"/>
          <a:stretch/>
        </p:blipFill>
        <p:spPr>
          <a:xfrm>
            <a:off x="4140360" y="3500280"/>
            <a:ext cx="4655880" cy="223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io di funzione con Derive 5                            di Stefania Mannara (SICSI VI CICLO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499F-A8E1-43AD-9FCD-6C4DAA3F482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8FDF0-3C71-45C1-B822-CCD18039C04C}" type="datetime1">
              <a:rPr lang="en-US"/>
              <a:t>07/31/26</a:t>
            </a:fld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526680"/>
            <a:ext cx="815328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66cc"/>
                </a:solidFill>
                <a:latin typeface="Baskerville Old Face"/>
              </a:rPr>
              <a:t>Rappresentazione grafic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6600"/>
                </a:solidFill>
                <a:latin typeface="Baskerville Old Face"/>
              </a:rPr>
              <a:t>Cliccare sull’icona per attivare la finestra grafico 2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6600"/>
                </a:solidFill>
                <a:latin typeface="Baskerville Old Face"/>
              </a:rPr>
              <a:t>Cliccare su plotter per rappresentare la funzion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505320" y="2438280"/>
          <a:ext cx="167616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438280"/>
                    <a:ext cx="16761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3733920" y="2819520"/>
            <a:ext cx="380880" cy="3045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971800" y="4495680"/>
          <a:ext cx="266688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4495680"/>
                    <a:ext cx="26668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3733920" y="4724280"/>
            <a:ext cx="380880" cy="3049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io di funzione con Derive 5                            di Stefania Mannara (SICSI VI CICLO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8F91-5EB2-486C-BCB8-9C556087DB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E885B-1E88-4EAC-998E-ADE8DBF8CA82}" type="datetime1">
              <a:rPr lang="en-US"/>
              <a:t>07/31/26</a:t>
            </a:fld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582480"/>
            <a:ext cx="815328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cc"/>
                </a:solidFill>
                <a:latin typeface="Times New Roman"/>
              </a:rPr>
              <a:t>Esercitazione gui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Baskerville Old Face"/>
              </a:rPr>
              <a:t>Avviare DERIVE 5 fo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Baskerville Old Face"/>
              </a:rPr>
              <a:t>Digitare la seguente funzione algebri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Baskerville Old Face"/>
              </a:rPr>
              <a:t>	</a:t>
            </a:r>
            <a:r>
              <a:rPr b="0" lang="it-IT" sz="2400" spc="-1" strike="noStrike">
                <a:solidFill>
                  <a:srgbClr val="ff6600"/>
                </a:solidFill>
                <a:latin typeface="Baskerville Old Face"/>
              </a:rPr>
              <a:t>	</a:t>
            </a:r>
            <a:r>
              <a:rPr b="1" lang="it-IT" sz="2400" spc="-1" strike="noStrike">
                <a:solidFill>
                  <a:srgbClr val="ff6600"/>
                </a:solidFill>
                <a:latin typeface="Baskerville Old Face"/>
              </a:rPr>
              <a:t>y=4x+3</a:t>
            </a:r>
            <a:r>
              <a:rPr b="1" lang="it-IT" sz="2400" spc="-1" strike="noStrike">
                <a:solidFill>
                  <a:srgbClr val="ff6600"/>
                </a:solidFill>
                <a:latin typeface="Baskerville Old Fac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Baskerville Old Face"/>
              </a:rPr>
              <a:t>Confermare il testo digitato che verrà visualizzato all’interno dell’area di lav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Baskerville Old Face"/>
              </a:rPr>
              <a:t>Rappresentare graficamente la funzione digit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io di funzione con Derive 5                            di Stefania Mannara (SICSI VI CICLO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8050-25DD-4626-B0F6-FB11F14A746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37DAE-74E0-4CDE-8A09-BCD87DEB877C}" type="datetime1">
              <a:rPr lang="en-US"/>
              <a:t>07/31/26</a:t>
            </a:fld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11280" y="151560"/>
            <a:ext cx="7777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cc"/>
                </a:solidFill>
                <a:latin typeface="Baskerville Old Face"/>
              </a:rPr>
              <a:t>Derive ci aiuta nello studio di una funzi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1261800"/>
            <a:ext cx="770400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Baskerville Old Face"/>
              </a:rPr>
              <a:t>E’ facile disegnare una funzione con Derive, ma per uno studio di funzione che si rispetti abbiamo bisogno di analizzare nei minimi particolari come si evolve la nostra funzion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Baskerville Old Face"/>
              </a:rPr>
              <a:t>Definire il Campo di esisten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Baskerville Old Face"/>
              </a:rPr>
              <a:t>Trovare le intersezioni con glia assi x e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Baskerville Old Face"/>
              </a:rPr>
              <a:t>Studiarne il segno(positività e negatività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Baskerville Old Face"/>
              </a:rPr>
              <a:t>Limi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Baskerville Old Face"/>
              </a:rPr>
              <a:t>Quindi, per arrivare alla rappresentazione grafica, occorre fare molti calcoli, a volte interminabili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Baskerville Old Face"/>
              </a:rPr>
              <a:t>Derive 5 ci aiuta a svolgere questi calcoli o per lo meno ad avere conferma che siano corretti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io di funzione con Derive 5                            di Stefania Mannara (SICSI VI CICLO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B9E-3622-4496-8CAF-486DCE3EE03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A4FE7-6538-4723-B0B5-24BCC967EBAF}" type="datetime1">
              <a:rPr lang="en-US"/>
              <a:t>07/31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66cc"/>
                </a:solidFill>
                <a:latin typeface="Baskerville Old Face"/>
              </a:rPr>
              <a:t>esemp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Baskerville Old Face"/>
              </a:rPr>
              <a:t>C . E. 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Baskerville Old Face"/>
              </a:rPr>
              <a:t>Trovare il dominio della funzi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Baskerville Old Face"/>
              </a:rPr>
              <a:t>Calcolo di un limite: Calcolare il limite seguent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403280" y="2781360"/>
                <a:ext cx="20890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403280" y="5013360"/>
                <a:ext cx="2089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076720" y="4076640"/>
            <a:ext cx="3210120" cy="1914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03236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io di funzione con Derive 5                            di Stefania Mannara (SICSI VI CICLO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9BF6-C913-4127-B9B0-B2A0C56079C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B1A66-9B0E-4B07-AD00-2B8FF160F492}" type="datetime1">
              <a:rPr lang="en-US"/>
              <a:t>07/31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66cc"/>
                </a:solidFill>
                <a:latin typeface="Baskerville Old Face"/>
              </a:rPr>
              <a:t>Usate Derive con intelligenza...</a:t>
            </a:r>
            <a:br>
              <a:rPr sz="4000"/>
            </a:br>
            <a:r>
              <a:rPr b="0" lang="it-IT" sz="4000" spc="-1" strike="noStrike">
                <a:solidFill>
                  <a:srgbClr val="0066cc"/>
                </a:solidFill>
                <a:latin typeface="Baskerville Old Face"/>
              </a:rPr>
              <a:t>e per saperne di più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2080800"/>
            <a:ext cx="3533760" cy="30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cc"/>
                </a:solidFill>
                <a:latin typeface="Baskerville Old Face"/>
              </a:rPr>
              <a:t>derive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cc"/>
                </a:solidFill>
                <a:latin typeface="Baskerville Old Face"/>
              </a:rPr>
              <a:t>   </a:t>
            </a:r>
            <a:r>
              <a:rPr b="0" lang="it-IT" sz="3600" spc="-1" strike="noStrike">
                <a:solidFill>
                  <a:srgbClr val="0066cc"/>
                </a:solidFill>
                <a:latin typeface="Baskerville Old Face"/>
              </a:rPr>
              <a:t>Scaricare il programma insieme con la guida è grat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692600" y="2128680"/>
            <a:ext cx="3994200" cy="34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io di funzione con Derive 5                            di Stefania Mannara (SICSI VI CICLO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3CA1-5710-4ADA-92BF-A13BACF91CA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F58A4-0741-4E29-A5A7-BBDD4534F444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1196640"/>
            <a:ext cx="81532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ff6600"/>
                </a:solidFill>
                <a:uFillTx/>
                <a:latin typeface="Baskerville Old Face"/>
              </a:rPr>
              <a:t>Uso di Deri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ff6600"/>
                </a:solidFill>
                <a:latin typeface="Baskerville Old Face"/>
              </a:rPr>
              <a:t>supporto didattico per una migliore comprensione dei concetti  incontrati dagli alunni di quinta liceo scientifico nell’apprendimento dell’Analis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io di funzione con Derive 5                            di Stefania Mannara (SICSI VI CICLO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60DB-5E66-4127-AE1B-8070B25CFCD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56EDD-738A-4AF2-A9E8-8F733DE15C20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64200"/>
            <a:ext cx="8153280" cy="6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66cc"/>
                </a:solidFill>
                <a:latin typeface="Baskerville Old Face"/>
              </a:rPr>
              <a:t>Cosa è DERIV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6103800" cy="45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rush Script MT"/>
              </a:rPr>
              <a:t>   </a:t>
            </a:r>
            <a:r>
              <a:rPr b="0" lang="it-IT" sz="3200" spc="-1" strike="noStrike">
                <a:solidFill>
                  <a:srgbClr val="ff6600"/>
                </a:solidFill>
                <a:latin typeface="Baskerville Old Face"/>
              </a:rPr>
              <a:t>DERIVE è un programma di matematica per l’algebra, le equazioni, la trigonometria, i vettori, le matrici, l’analisi, ed esegue gli stessi calcoli di una calcolatrice scientific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6600"/>
                </a:solidFill>
                <a:latin typeface="Baskerville Old Face"/>
              </a:rPr>
              <a:t>  </a:t>
            </a:r>
            <a:r>
              <a:rPr b="0" lang="it-IT" sz="3200" spc="-1" strike="noStrike">
                <a:solidFill>
                  <a:srgbClr val="ff6600"/>
                </a:solidFill>
                <a:latin typeface="Baskerville Old Face"/>
              </a:rPr>
              <a:t>DERIVE possiede notevoli capacità grafiche 2D e 3D ed esegue sia calcoli numerici che simbolic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59640" y="1628640"/>
            <a:ext cx="2132640" cy="2970360"/>
            <a:chOff x="6659640" y="1628640"/>
            <a:chExt cx="2132640" cy="2970360"/>
          </a:xfrm>
        </p:grpSpPr>
        <p:sp>
          <p:nvSpPr>
            <p:cNvPr id="99" name=""/>
            <p:cNvSpPr/>
            <p:nvPr/>
          </p:nvSpPr>
          <p:spPr>
            <a:xfrm>
              <a:off x="6659640" y="1628640"/>
              <a:ext cx="2058120" cy="2748960"/>
            </a:xfrm>
            <a:custGeom>
              <a:avLst/>
              <a:gdLst/>
              <a:ahLst/>
              <a:rect l="l" t="t" r="r" b="b"/>
              <a:pathLst>
                <a:path w="1696" h="1409">
                  <a:moveTo>
                    <a:pt x="174" y="202"/>
                  </a:moveTo>
                  <a:lnTo>
                    <a:pt x="463" y="45"/>
                  </a:lnTo>
                  <a:lnTo>
                    <a:pt x="702" y="0"/>
                  </a:lnTo>
                  <a:lnTo>
                    <a:pt x="1013" y="23"/>
                  </a:lnTo>
                  <a:lnTo>
                    <a:pt x="1257" y="73"/>
                  </a:lnTo>
                  <a:lnTo>
                    <a:pt x="1481" y="266"/>
                  </a:lnTo>
                  <a:lnTo>
                    <a:pt x="1651" y="481"/>
                  </a:lnTo>
                  <a:lnTo>
                    <a:pt x="1696" y="725"/>
                  </a:lnTo>
                  <a:lnTo>
                    <a:pt x="1659" y="914"/>
                  </a:lnTo>
                  <a:lnTo>
                    <a:pt x="1568" y="1050"/>
                  </a:lnTo>
                  <a:lnTo>
                    <a:pt x="1642" y="1409"/>
                  </a:lnTo>
                  <a:lnTo>
                    <a:pt x="1142" y="1303"/>
                  </a:lnTo>
                  <a:lnTo>
                    <a:pt x="931" y="1317"/>
                  </a:lnTo>
                  <a:lnTo>
                    <a:pt x="513" y="1276"/>
                  </a:lnTo>
                  <a:lnTo>
                    <a:pt x="252" y="1124"/>
                  </a:lnTo>
                  <a:lnTo>
                    <a:pt x="106" y="936"/>
                  </a:lnTo>
                  <a:lnTo>
                    <a:pt x="0" y="606"/>
                  </a:lnTo>
                  <a:lnTo>
                    <a:pt x="78" y="372"/>
                  </a:lnTo>
                  <a:lnTo>
                    <a:pt x="174" y="202"/>
                  </a:lnTo>
                  <a:lnTo>
                    <a:pt x="174" y="202"/>
                  </a:lnTo>
                  <a:lnTo>
                    <a:pt x="174" y="202"/>
                  </a:lnTo>
                  <a:close/>
                </a:path>
              </a:pathLst>
            </a:custGeom>
            <a:solidFill>
              <a:srgbClr val="fff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6659640" y="1628640"/>
              <a:ext cx="2132640" cy="2970360"/>
              <a:chOff x="6659640" y="1628640"/>
              <a:chExt cx="2132640" cy="2970360"/>
            </a:xfrm>
          </p:grpSpPr>
          <p:sp>
            <p:nvSpPr>
              <p:cNvPr id="101" name=""/>
              <p:cNvSpPr/>
              <p:nvPr/>
            </p:nvSpPr>
            <p:spPr>
              <a:xfrm>
                <a:off x="7223760" y="2034000"/>
                <a:ext cx="991080" cy="1600200"/>
              </a:xfrm>
              <a:custGeom>
                <a:avLst/>
                <a:gdLst/>
                <a:ahLst/>
                <a:rect l="l" t="t" r="r" b="b"/>
                <a:pathLst>
                  <a:path w="816" h="820">
                    <a:moveTo>
                      <a:pt x="59" y="268"/>
                    </a:moveTo>
                    <a:lnTo>
                      <a:pt x="0" y="154"/>
                    </a:lnTo>
                    <a:lnTo>
                      <a:pt x="60" y="99"/>
                    </a:lnTo>
                    <a:lnTo>
                      <a:pt x="348" y="14"/>
                    </a:lnTo>
                    <a:lnTo>
                      <a:pt x="502" y="0"/>
                    </a:lnTo>
                    <a:lnTo>
                      <a:pt x="651" y="69"/>
                    </a:lnTo>
                    <a:lnTo>
                      <a:pt x="761" y="153"/>
                    </a:lnTo>
                    <a:lnTo>
                      <a:pt x="816" y="307"/>
                    </a:lnTo>
                    <a:lnTo>
                      <a:pt x="731" y="437"/>
                    </a:lnTo>
                    <a:lnTo>
                      <a:pt x="596" y="512"/>
                    </a:lnTo>
                    <a:lnTo>
                      <a:pt x="487" y="547"/>
                    </a:lnTo>
                    <a:lnTo>
                      <a:pt x="473" y="586"/>
                    </a:lnTo>
                    <a:lnTo>
                      <a:pt x="492" y="696"/>
                    </a:lnTo>
                    <a:lnTo>
                      <a:pt x="477" y="756"/>
                    </a:lnTo>
                    <a:lnTo>
                      <a:pt x="318" y="820"/>
                    </a:lnTo>
                    <a:lnTo>
                      <a:pt x="204" y="616"/>
                    </a:lnTo>
                    <a:lnTo>
                      <a:pt x="198" y="512"/>
                    </a:lnTo>
                    <a:lnTo>
                      <a:pt x="235" y="458"/>
                    </a:lnTo>
                    <a:lnTo>
                      <a:pt x="448" y="373"/>
                    </a:lnTo>
                    <a:lnTo>
                      <a:pt x="487" y="282"/>
                    </a:lnTo>
                    <a:lnTo>
                      <a:pt x="442" y="189"/>
                    </a:lnTo>
                    <a:lnTo>
                      <a:pt x="323" y="153"/>
                    </a:lnTo>
                    <a:lnTo>
                      <a:pt x="164" y="198"/>
                    </a:lnTo>
                    <a:lnTo>
                      <a:pt x="109" y="282"/>
                    </a:lnTo>
                    <a:lnTo>
                      <a:pt x="59" y="268"/>
                    </a:lnTo>
                    <a:lnTo>
                      <a:pt x="59" y="268"/>
                    </a:lnTo>
                    <a:lnTo>
                      <a:pt x="59" y="268"/>
                    </a:lnTo>
                    <a:close/>
                  </a:path>
                </a:pathLst>
              </a:custGeom>
              <a:solidFill>
                <a:srgbClr val="4cb8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82040" y="3673080"/>
                <a:ext cx="283320" cy="375120"/>
              </a:xfrm>
              <a:custGeom>
                <a:avLst/>
                <a:gdLst/>
                <a:ahLst/>
                <a:rect l="l" t="t" r="r" b="b"/>
                <a:pathLst>
                  <a:path w="234" h="192">
                    <a:moveTo>
                      <a:pt x="9" y="57"/>
                    </a:moveTo>
                    <a:lnTo>
                      <a:pt x="34" y="35"/>
                    </a:lnTo>
                    <a:lnTo>
                      <a:pt x="99" y="5"/>
                    </a:lnTo>
                    <a:lnTo>
                      <a:pt x="170" y="0"/>
                    </a:lnTo>
                    <a:lnTo>
                      <a:pt x="229" y="55"/>
                    </a:lnTo>
                    <a:lnTo>
                      <a:pt x="234" y="114"/>
                    </a:lnTo>
                    <a:lnTo>
                      <a:pt x="187" y="173"/>
                    </a:lnTo>
                    <a:lnTo>
                      <a:pt x="64" y="192"/>
                    </a:lnTo>
                    <a:lnTo>
                      <a:pt x="0" y="160"/>
                    </a:lnTo>
                    <a:lnTo>
                      <a:pt x="4" y="114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close/>
                  </a:path>
                </a:pathLst>
              </a:custGeom>
              <a:solidFill>
                <a:srgbClr val="4cb8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00240" y="2872800"/>
                <a:ext cx="240120" cy="456480"/>
              </a:xfrm>
              <a:custGeom>
                <a:avLst/>
                <a:gdLst/>
                <a:ahLst/>
                <a:rect l="l" t="t" r="r" b="b"/>
                <a:pathLst>
                  <a:path w="198" h="235">
                    <a:moveTo>
                      <a:pt x="198" y="0"/>
                    </a:moveTo>
                    <a:lnTo>
                      <a:pt x="58" y="41"/>
                    </a:lnTo>
                    <a:lnTo>
                      <a:pt x="13" y="71"/>
                    </a:lnTo>
                    <a:lnTo>
                      <a:pt x="7" y="104"/>
                    </a:lnTo>
                    <a:lnTo>
                      <a:pt x="0" y="140"/>
                    </a:lnTo>
                    <a:lnTo>
                      <a:pt x="25" y="171"/>
                    </a:lnTo>
                    <a:lnTo>
                      <a:pt x="76" y="235"/>
                    </a:lnTo>
                    <a:lnTo>
                      <a:pt x="81" y="121"/>
                    </a:lnTo>
                    <a:lnTo>
                      <a:pt x="121" y="68"/>
                    </a:lnTo>
                    <a:lnTo>
                      <a:pt x="198" y="0"/>
                    </a:lnTo>
                    <a:lnTo>
                      <a:pt x="198" y="0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b2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716240" y="3728160"/>
                <a:ext cx="101520" cy="21492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56" y="0"/>
                    </a:moveTo>
                    <a:lnTo>
                      <a:pt x="32" y="13"/>
                    </a:lnTo>
                    <a:lnTo>
                      <a:pt x="12" y="30"/>
                    </a:lnTo>
                    <a:lnTo>
                      <a:pt x="0" y="57"/>
                    </a:lnTo>
                    <a:lnTo>
                      <a:pt x="15" y="93"/>
                    </a:lnTo>
                    <a:lnTo>
                      <a:pt x="50" y="108"/>
                    </a:lnTo>
                    <a:lnTo>
                      <a:pt x="62" y="25"/>
                    </a:lnTo>
                    <a:lnTo>
                      <a:pt x="84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b2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149680" y="4181400"/>
                <a:ext cx="632520" cy="417600"/>
              </a:xfrm>
              <a:custGeom>
                <a:avLst/>
                <a:gdLst/>
                <a:ahLst/>
                <a:rect l="l" t="t" r="r" b="b"/>
                <a:pathLst>
                  <a:path w="521" h="212">
                    <a:moveTo>
                      <a:pt x="49" y="0"/>
                    </a:moveTo>
                    <a:lnTo>
                      <a:pt x="273" y="60"/>
                    </a:lnTo>
                    <a:lnTo>
                      <a:pt x="376" y="93"/>
                    </a:lnTo>
                    <a:lnTo>
                      <a:pt x="493" y="134"/>
                    </a:lnTo>
                    <a:lnTo>
                      <a:pt x="518" y="156"/>
                    </a:lnTo>
                    <a:lnTo>
                      <a:pt x="521" y="172"/>
                    </a:lnTo>
                    <a:lnTo>
                      <a:pt x="518" y="186"/>
                    </a:lnTo>
                    <a:lnTo>
                      <a:pt x="499" y="210"/>
                    </a:lnTo>
                    <a:lnTo>
                      <a:pt x="465" y="212"/>
                    </a:lnTo>
                    <a:lnTo>
                      <a:pt x="350" y="172"/>
                    </a:lnTo>
                    <a:lnTo>
                      <a:pt x="250" y="140"/>
                    </a:lnTo>
                    <a:lnTo>
                      <a:pt x="148" y="110"/>
                    </a:lnTo>
                    <a:lnTo>
                      <a:pt x="30" y="79"/>
                    </a:lnTo>
                    <a:lnTo>
                      <a:pt x="3" y="60"/>
                    </a:lnTo>
                    <a:lnTo>
                      <a:pt x="0" y="29"/>
                    </a:lnTo>
                    <a:lnTo>
                      <a:pt x="1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557200" y="3763440"/>
                <a:ext cx="235080" cy="835560"/>
              </a:xfrm>
              <a:custGeom>
                <a:avLst/>
                <a:gdLst/>
                <a:ahLst/>
                <a:rect l="l" t="t" r="r" b="b"/>
                <a:pathLst>
                  <a:path w="194" h="427">
                    <a:moveTo>
                      <a:pt x="82" y="33"/>
                    </a:moveTo>
                    <a:lnTo>
                      <a:pt x="101" y="127"/>
                    </a:lnTo>
                    <a:lnTo>
                      <a:pt x="127" y="208"/>
                    </a:lnTo>
                    <a:lnTo>
                      <a:pt x="157" y="286"/>
                    </a:lnTo>
                    <a:lnTo>
                      <a:pt x="194" y="374"/>
                    </a:lnTo>
                    <a:lnTo>
                      <a:pt x="192" y="408"/>
                    </a:lnTo>
                    <a:lnTo>
                      <a:pt x="170" y="427"/>
                    </a:lnTo>
                    <a:lnTo>
                      <a:pt x="116" y="405"/>
                    </a:lnTo>
                    <a:lnTo>
                      <a:pt x="0" y="47"/>
                    </a:lnTo>
                    <a:lnTo>
                      <a:pt x="8" y="14"/>
                    </a:lnTo>
                    <a:lnTo>
                      <a:pt x="34" y="0"/>
                    </a:lnTo>
                    <a:lnTo>
                      <a:pt x="63" y="5"/>
                    </a:lnTo>
                    <a:lnTo>
                      <a:pt x="82" y="33"/>
                    </a:lnTo>
                    <a:lnTo>
                      <a:pt x="82" y="33"/>
                    </a:lnTo>
                    <a:lnTo>
                      <a:pt x="82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59640" y="1628640"/>
                <a:ext cx="2125080" cy="2732400"/>
              </a:xfrm>
              <a:custGeom>
                <a:avLst/>
                <a:gdLst/>
                <a:ahLst/>
                <a:rect l="l" t="t" r="r" b="b"/>
                <a:pathLst>
                  <a:path w="1755" h="1400">
                    <a:moveTo>
                      <a:pt x="1485" y="1167"/>
                    </a:moveTo>
                    <a:lnTo>
                      <a:pt x="1536" y="1105"/>
                    </a:lnTo>
                    <a:lnTo>
                      <a:pt x="1582" y="1051"/>
                    </a:lnTo>
                    <a:lnTo>
                      <a:pt x="1653" y="950"/>
                    </a:lnTo>
                    <a:lnTo>
                      <a:pt x="1688" y="832"/>
                    </a:lnTo>
                    <a:lnTo>
                      <a:pt x="1679" y="670"/>
                    </a:lnTo>
                    <a:lnTo>
                      <a:pt x="1657" y="584"/>
                    </a:lnTo>
                    <a:lnTo>
                      <a:pt x="1629" y="508"/>
                    </a:lnTo>
                    <a:lnTo>
                      <a:pt x="1592" y="437"/>
                    </a:lnTo>
                    <a:lnTo>
                      <a:pt x="1548" y="374"/>
                    </a:lnTo>
                    <a:lnTo>
                      <a:pt x="1499" y="317"/>
                    </a:lnTo>
                    <a:lnTo>
                      <a:pt x="1443" y="267"/>
                    </a:lnTo>
                    <a:lnTo>
                      <a:pt x="1383" y="223"/>
                    </a:lnTo>
                    <a:lnTo>
                      <a:pt x="1317" y="185"/>
                    </a:lnTo>
                    <a:lnTo>
                      <a:pt x="1249" y="153"/>
                    </a:lnTo>
                    <a:lnTo>
                      <a:pt x="1177" y="126"/>
                    </a:lnTo>
                    <a:lnTo>
                      <a:pt x="1025" y="89"/>
                    </a:lnTo>
                    <a:lnTo>
                      <a:pt x="867" y="71"/>
                    </a:lnTo>
                    <a:lnTo>
                      <a:pt x="709" y="72"/>
                    </a:lnTo>
                    <a:lnTo>
                      <a:pt x="579" y="94"/>
                    </a:lnTo>
                    <a:lnTo>
                      <a:pt x="455" y="141"/>
                    </a:lnTo>
                    <a:lnTo>
                      <a:pt x="397" y="173"/>
                    </a:lnTo>
                    <a:lnTo>
                      <a:pt x="342" y="211"/>
                    </a:lnTo>
                    <a:lnTo>
                      <a:pt x="292" y="254"/>
                    </a:lnTo>
                    <a:lnTo>
                      <a:pt x="247" y="300"/>
                    </a:lnTo>
                    <a:lnTo>
                      <a:pt x="171" y="407"/>
                    </a:lnTo>
                    <a:lnTo>
                      <a:pt x="121" y="526"/>
                    </a:lnTo>
                    <a:lnTo>
                      <a:pt x="101" y="654"/>
                    </a:lnTo>
                    <a:lnTo>
                      <a:pt x="115" y="790"/>
                    </a:lnTo>
                    <a:lnTo>
                      <a:pt x="144" y="881"/>
                    </a:lnTo>
                    <a:lnTo>
                      <a:pt x="182" y="962"/>
                    </a:lnTo>
                    <a:lnTo>
                      <a:pt x="229" y="1034"/>
                    </a:lnTo>
                    <a:lnTo>
                      <a:pt x="255" y="1066"/>
                    </a:lnTo>
                    <a:lnTo>
                      <a:pt x="284" y="1097"/>
                    </a:lnTo>
                    <a:lnTo>
                      <a:pt x="346" y="1153"/>
                    </a:lnTo>
                    <a:lnTo>
                      <a:pt x="379" y="1177"/>
                    </a:lnTo>
                    <a:lnTo>
                      <a:pt x="415" y="1199"/>
                    </a:lnTo>
                    <a:lnTo>
                      <a:pt x="487" y="1238"/>
                    </a:lnTo>
                    <a:lnTo>
                      <a:pt x="565" y="1269"/>
                    </a:lnTo>
                    <a:lnTo>
                      <a:pt x="647" y="1293"/>
                    </a:lnTo>
                    <a:lnTo>
                      <a:pt x="732" y="1309"/>
                    </a:lnTo>
                    <a:lnTo>
                      <a:pt x="904" y="1320"/>
                    </a:lnTo>
                    <a:lnTo>
                      <a:pt x="1078" y="1305"/>
                    </a:lnTo>
                    <a:lnTo>
                      <a:pt x="1243" y="1265"/>
                    </a:lnTo>
                    <a:lnTo>
                      <a:pt x="1294" y="1275"/>
                    </a:lnTo>
                    <a:lnTo>
                      <a:pt x="1282" y="1326"/>
                    </a:lnTo>
                    <a:lnTo>
                      <a:pt x="1239" y="1357"/>
                    </a:lnTo>
                    <a:lnTo>
                      <a:pt x="1186" y="1379"/>
                    </a:lnTo>
                    <a:lnTo>
                      <a:pt x="1060" y="1400"/>
                    </a:lnTo>
                    <a:lnTo>
                      <a:pt x="817" y="1388"/>
                    </a:lnTo>
                    <a:lnTo>
                      <a:pt x="615" y="1349"/>
                    </a:lnTo>
                    <a:lnTo>
                      <a:pt x="444" y="1288"/>
                    </a:lnTo>
                    <a:lnTo>
                      <a:pt x="369" y="1252"/>
                    </a:lnTo>
                    <a:lnTo>
                      <a:pt x="302" y="1210"/>
                    </a:lnTo>
                    <a:lnTo>
                      <a:pt x="241" y="1165"/>
                    </a:lnTo>
                    <a:lnTo>
                      <a:pt x="189" y="1116"/>
                    </a:lnTo>
                    <a:lnTo>
                      <a:pt x="143" y="1065"/>
                    </a:lnTo>
                    <a:lnTo>
                      <a:pt x="102" y="1012"/>
                    </a:lnTo>
                    <a:lnTo>
                      <a:pt x="43" y="898"/>
                    </a:lnTo>
                    <a:lnTo>
                      <a:pt x="8" y="779"/>
                    </a:lnTo>
                    <a:lnTo>
                      <a:pt x="0" y="658"/>
                    </a:lnTo>
                    <a:lnTo>
                      <a:pt x="13" y="538"/>
                    </a:lnTo>
                    <a:lnTo>
                      <a:pt x="30" y="480"/>
                    </a:lnTo>
                    <a:lnTo>
                      <a:pt x="51" y="423"/>
                    </a:lnTo>
                    <a:lnTo>
                      <a:pt x="78" y="367"/>
                    </a:lnTo>
                    <a:lnTo>
                      <a:pt x="110" y="315"/>
                    </a:lnTo>
                    <a:lnTo>
                      <a:pt x="149" y="264"/>
                    </a:lnTo>
                    <a:lnTo>
                      <a:pt x="191" y="217"/>
                    </a:lnTo>
                    <a:lnTo>
                      <a:pt x="239" y="173"/>
                    </a:lnTo>
                    <a:lnTo>
                      <a:pt x="292" y="134"/>
                    </a:lnTo>
                    <a:lnTo>
                      <a:pt x="349" y="98"/>
                    </a:lnTo>
                    <a:lnTo>
                      <a:pt x="412" y="68"/>
                    </a:lnTo>
                    <a:lnTo>
                      <a:pt x="479" y="43"/>
                    </a:lnTo>
                    <a:lnTo>
                      <a:pt x="550" y="22"/>
                    </a:lnTo>
                    <a:lnTo>
                      <a:pt x="706" y="0"/>
                    </a:lnTo>
                    <a:lnTo>
                      <a:pt x="1048" y="20"/>
                    </a:lnTo>
                    <a:lnTo>
                      <a:pt x="1212" y="63"/>
                    </a:lnTo>
                    <a:lnTo>
                      <a:pt x="1364" y="128"/>
                    </a:lnTo>
                    <a:lnTo>
                      <a:pt x="1434" y="171"/>
                    </a:lnTo>
                    <a:lnTo>
                      <a:pt x="1499" y="220"/>
                    </a:lnTo>
                    <a:lnTo>
                      <a:pt x="1560" y="275"/>
                    </a:lnTo>
                    <a:lnTo>
                      <a:pt x="1612" y="337"/>
                    </a:lnTo>
                    <a:lnTo>
                      <a:pt x="1660" y="406"/>
                    </a:lnTo>
                    <a:lnTo>
                      <a:pt x="1698" y="482"/>
                    </a:lnTo>
                    <a:lnTo>
                      <a:pt x="1750" y="658"/>
                    </a:lnTo>
                    <a:lnTo>
                      <a:pt x="1755" y="811"/>
                    </a:lnTo>
                    <a:lnTo>
                      <a:pt x="1744" y="894"/>
                    </a:lnTo>
                    <a:lnTo>
                      <a:pt x="1721" y="977"/>
                    </a:lnTo>
                    <a:lnTo>
                      <a:pt x="1689" y="1056"/>
                    </a:lnTo>
                    <a:lnTo>
                      <a:pt x="1648" y="1126"/>
                    </a:lnTo>
                    <a:lnTo>
                      <a:pt x="1594" y="1183"/>
                    </a:lnTo>
                    <a:lnTo>
                      <a:pt x="1563" y="1206"/>
                    </a:lnTo>
                    <a:lnTo>
                      <a:pt x="1530" y="1225"/>
                    </a:lnTo>
                    <a:lnTo>
                      <a:pt x="1479" y="1219"/>
                    </a:lnTo>
                    <a:lnTo>
                      <a:pt x="1485" y="1167"/>
                    </a:lnTo>
                    <a:lnTo>
                      <a:pt x="1485" y="1167"/>
                    </a:lnTo>
                    <a:lnTo>
                      <a:pt x="1485" y="1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214400" y="2304000"/>
                <a:ext cx="625320" cy="1322280"/>
              </a:xfrm>
              <a:custGeom>
                <a:avLst/>
                <a:gdLst/>
                <a:ahLst/>
                <a:rect l="l" t="t" r="r" b="b"/>
                <a:pathLst>
                  <a:path w="515" h="678">
                    <a:moveTo>
                      <a:pt x="47" y="52"/>
                    </a:moveTo>
                    <a:lnTo>
                      <a:pt x="67" y="86"/>
                    </a:lnTo>
                    <a:lnTo>
                      <a:pt x="86" y="117"/>
                    </a:lnTo>
                    <a:lnTo>
                      <a:pt x="143" y="71"/>
                    </a:lnTo>
                    <a:lnTo>
                      <a:pt x="172" y="46"/>
                    </a:lnTo>
                    <a:lnTo>
                      <a:pt x="209" y="27"/>
                    </a:lnTo>
                    <a:lnTo>
                      <a:pt x="288" y="4"/>
                    </a:lnTo>
                    <a:lnTo>
                      <a:pt x="368" y="0"/>
                    </a:lnTo>
                    <a:lnTo>
                      <a:pt x="442" y="20"/>
                    </a:lnTo>
                    <a:lnTo>
                      <a:pt x="496" y="71"/>
                    </a:lnTo>
                    <a:lnTo>
                      <a:pt x="515" y="139"/>
                    </a:lnTo>
                    <a:lnTo>
                      <a:pt x="493" y="205"/>
                    </a:lnTo>
                    <a:lnTo>
                      <a:pt x="466" y="235"/>
                    </a:lnTo>
                    <a:lnTo>
                      <a:pt x="437" y="257"/>
                    </a:lnTo>
                    <a:lnTo>
                      <a:pt x="367" y="285"/>
                    </a:lnTo>
                    <a:lnTo>
                      <a:pt x="226" y="351"/>
                    </a:lnTo>
                    <a:lnTo>
                      <a:pt x="211" y="408"/>
                    </a:lnTo>
                    <a:lnTo>
                      <a:pt x="232" y="470"/>
                    </a:lnTo>
                    <a:lnTo>
                      <a:pt x="266" y="517"/>
                    </a:lnTo>
                    <a:lnTo>
                      <a:pt x="299" y="555"/>
                    </a:lnTo>
                    <a:lnTo>
                      <a:pt x="364" y="643"/>
                    </a:lnTo>
                    <a:lnTo>
                      <a:pt x="354" y="678"/>
                    </a:lnTo>
                    <a:lnTo>
                      <a:pt x="319" y="667"/>
                    </a:lnTo>
                    <a:lnTo>
                      <a:pt x="288" y="620"/>
                    </a:lnTo>
                    <a:lnTo>
                      <a:pt x="255" y="580"/>
                    </a:lnTo>
                    <a:lnTo>
                      <a:pt x="188" y="496"/>
                    </a:lnTo>
                    <a:lnTo>
                      <a:pt x="169" y="409"/>
                    </a:lnTo>
                    <a:lnTo>
                      <a:pt x="183" y="367"/>
                    </a:lnTo>
                    <a:lnTo>
                      <a:pt x="211" y="330"/>
                    </a:lnTo>
                    <a:lnTo>
                      <a:pt x="241" y="307"/>
                    </a:lnTo>
                    <a:lnTo>
                      <a:pt x="273" y="288"/>
                    </a:lnTo>
                    <a:lnTo>
                      <a:pt x="337" y="260"/>
                    </a:lnTo>
                    <a:lnTo>
                      <a:pt x="449" y="178"/>
                    </a:lnTo>
                    <a:lnTo>
                      <a:pt x="459" y="136"/>
                    </a:lnTo>
                    <a:lnTo>
                      <a:pt x="443" y="93"/>
                    </a:lnTo>
                    <a:lnTo>
                      <a:pt x="401" y="57"/>
                    </a:lnTo>
                    <a:lnTo>
                      <a:pt x="346" y="46"/>
                    </a:lnTo>
                    <a:lnTo>
                      <a:pt x="226" y="74"/>
                    </a:lnTo>
                    <a:lnTo>
                      <a:pt x="148" y="129"/>
                    </a:lnTo>
                    <a:lnTo>
                      <a:pt x="114" y="159"/>
                    </a:lnTo>
                    <a:lnTo>
                      <a:pt x="68" y="180"/>
                    </a:lnTo>
                    <a:lnTo>
                      <a:pt x="35" y="155"/>
                    </a:lnTo>
                    <a:lnTo>
                      <a:pt x="19" y="97"/>
                    </a:lnTo>
                    <a:lnTo>
                      <a:pt x="0" y="39"/>
                    </a:lnTo>
                    <a:lnTo>
                      <a:pt x="22" y="20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7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26240" y="3439440"/>
                <a:ext cx="244800" cy="226440"/>
              </a:xfrm>
              <a:custGeom>
                <a:avLst/>
                <a:gdLst/>
                <a:ahLst/>
                <a:rect l="l" t="t" r="r" b="b"/>
                <a:pathLst>
                  <a:path w="202" h="116">
                    <a:moveTo>
                      <a:pt x="17" y="67"/>
                    </a:moveTo>
                    <a:lnTo>
                      <a:pt x="89" y="32"/>
                    </a:lnTo>
                    <a:lnTo>
                      <a:pt x="163" y="0"/>
                    </a:lnTo>
                    <a:lnTo>
                      <a:pt x="201" y="27"/>
                    </a:lnTo>
                    <a:lnTo>
                      <a:pt x="202" y="51"/>
                    </a:lnTo>
                    <a:lnTo>
                      <a:pt x="187" y="66"/>
                    </a:lnTo>
                    <a:lnTo>
                      <a:pt x="109" y="89"/>
                    </a:lnTo>
                    <a:lnTo>
                      <a:pt x="33" y="116"/>
                    </a:lnTo>
                    <a:lnTo>
                      <a:pt x="0" y="99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17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41040" y="1932840"/>
                <a:ext cx="986400" cy="1580760"/>
              </a:xfrm>
              <a:custGeom>
                <a:avLst/>
                <a:gdLst/>
                <a:ahLst/>
                <a:rect l="l" t="t" r="r" b="b"/>
                <a:pathLst>
                  <a:path w="815" h="811">
                    <a:moveTo>
                      <a:pt x="0" y="109"/>
                    </a:moveTo>
                    <a:lnTo>
                      <a:pt x="71" y="73"/>
                    </a:lnTo>
                    <a:lnTo>
                      <a:pt x="148" y="43"/>
                    </a:lnTo>
                    <a:lnTo>
                      <a:pt x="228" y="21"/>
                    </a:lnTo>
                    <a:lnTo>
                      <a:pt x="307" y="7"/>
                    </a:lnTo>
                    <a:lnTo>
                      <a:pt x="501" y="0"/>
                    </a:lnTo>
                    <a:lnTo>
                      <a:pt x="678" y="57"/>
                    </a:lnTo>
                    <a:lnTo>
                      <a:pt x="793" y="185"/>
                    </a:lnTo>
                    <a:lnTo>
                      <a:pt x="815" y="270"/>
                    </a:lnTo>
                    <a:lnTo>
                      <a:pt x="809" y="355"/>
                    </a:lnTo>
                    <a:lnTo>
                      <a:pt x="775" y="434"/>
                    </a:lnTo>
                    <a:lnTo>
                      <a:pt x="749" y="469"/>
                    </a:lnTo>
                    <a:lnTo>
                      <a:pt x="716" y="501"/>
                    </a:lnTo>
                    <a:lnTo>
                      <a:pt x="673" y="524"/>
                    </a:lnTo>
                    <a:lnTo>
                      <a:pt x="622" y="537"/>
                    </a:lnTo>
                    <a:lnTo>
                      <a:pt x="519" y="555"/>
                    </a:lnTo>
                    <a:lnTo>
                      <a:pt x="493" y="573"/>
                    </a:lnTo>
                    <a:lnTo>
                      <a:pt x="472" y="600"/>
                    </a:lnTo>
                    <a:lnTo>
                      <a:pt x="495" y="686"/>
                    </a:lnTo>
                    <a:lnTo>
                      <a:pt x="491" y="783"/>
                    </a:lnTo>
                    <a:lnTo>
                      <a:pt x="478" y="803"/>
                    </a:lnTo>
                    <a:lnTo>
                      <a:pt x="450" y="811"/>
                    </a:lnTo>
                    <a:lnTo>
                      <a:pt x="408" y="787"/>
                    </a:lnTo>
                    <a:lnTo>
                      <a:pt x="386" y="613"/>
                    </a:lnTo>
                    <a:lnTo>
                      <a:pt x="389" y="578"/>
                    </a:lnTo>
                    <a:lnTo>
                      <a:pt x="443" y="535"/>
                    </a:lnTo>
                    <a:lnTo>
                      <a:pt x="504" y="507"/>
                    </a:lnTo>
                    <a:lnTo>
                      <a:pt x="636" y="460"/>
                    </a:lnTo>
                    <a:lnTo>
                      <a:pt x="683" y="407"/>
                    </a:lnTo>
                    <a:lnTo>
                      <a:pt x="706" y="345"/>
                    </a:lnTo>
                    <a:lnTo>
                      <a:pt x="708" y="279"/>
                    </a:lnTo>
                    <a:lnTo>
                      <a:pt x="689" y="211"/>
                    </a:lnTo>
                    <a:lnTo>
                      <a:pt x="655" y="159"/>
                    </a:lnTo>
                    <a:lnTo>
                      <a:pt x="605" y="121"/>
                    </a:lnTo>
                    <a:lnTo>
                      <a:pt x="535" y="79"/>
                    </a:lnTo>
                    <a:lnTo>
                      <a:pt x="465" y="53"/>
                    </a:lnTo>
                    <a:lnTo>
                      <a:pt x="312" y="42"/>
                    </a:lnTo>
                    <a:lnTo>
                      <a:pt x="181" y="74"/>
                    </a:lnTo>
                    <a:lnTo>
                      <a:pt x="61" y="135"/>
                    </a:lnTo>
                    <a:lnTo>
                      <a:pt x="8" y="134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57920" y="3653640"/>
                <a:ext cx="380160" cy="448560"/>
              </a:xfrm>
              <a:custGeom>
                <a:avLst/>
                <a:gdLst/>
                <a:ahLst/>
                <a:rect l="l" t="t" r="r" b="b"/>
                <a:pathLst>
                  <a:path w="315" h="230">
                    <a:moveTo>
                      <a:pt x="35" y="88"/>
                    </a:moveTo>
                    <a:lnTo>
                      <a:pt x="45" y="160"/>
                    </a:lnTo>
                    <a:lnTo>
                      <a:pt x="143" y="176"/>
                    </a:lnTo>
                    <a:lnTo>
                      <a:pt x="221" y="142"/>
                    </a:lnTo>
                    <a:lnTo>
                      <a:pt x="237" y="122"/>
                    </a:lnTo>
                    <a:lnTo>
                      <a:pt x="228" y="59"/>
                    </a:lnTo>
                    <a:lnTo>
                      <a:pt x="199" y="40"/>
                    </a:lnTo>
                    <a:lnTo>
                      <a:pt x="161" y="29"/>
                    </a:lnTo>
                    <a:lnTo>
                      <a:pt x="150" y="15"/>
                    </a:lnTo>
                    <a:lnTo>
                      <a:pt x="190" y="0"/>
                    </a:lnTo>
                    <a:lnTo>
                      <a:pt x="296" y="33"/>
                    </a:lnTo>
                    <a:lnTo>
                      <a:pt x="315" y="120"/>
                    </a:lnTo>
                    <a:lnTo>
                      <a:pt x="303" y="155"/>
                    </a:lnTo>
                    <a:lnTo>
                      <a:pt x="282" y="181"/>
                    </a:lnTo>
                    <a:lnTo>
                      <a:pt x="236" y="211"/>
                    </a:lnTo>
                    <a:lnTo>
                      <a:pt x="186" y="230"/>
                    </a:lnTo>
                    <a:lnTo>
                      <a:pt x="102" y="228"/>
                    </a:lnTo>
                    <a:lnTo>
                      <a:pt x="24" y="197"/>
                    </a:lnTo>
                    <a:lnTo>
                      <a:pt x="0" y="148"/>
                    </a:lnTo>
                    <a:lnTo>
                      <a:pt x="13" y="84"/>
                    </a:lnTo>
                    <a:lnTo>
                      <a:pt x="31" y="62"/>
                    </a:lnTo>
                    <a:lnTo>
                      <a:pt x="35" y="88"/>
                    </a:lnTo>
                    <a:lnTo>
                      <a:pt x="35" y="88"/>
                    </a:lnTo>
                    <a:lnTo>
                      <a:pt x="35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io di funzione con Derive 5                            di Stefania Mannara (SICSI VI CICLO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23E-1B85-44BB-AB4C-9C9EE8676A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AA7A0-9BFE-4905-B397-8436F497AEC6}" type="datetime1">
              <a:rPr lang="en-US"/>
              <a:t>07/31/26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14cc"/>
                </a:solidFill>
                <a:latin typeface="Baskerville Old Face"/>
              </a:rPr>
              <a:t>COSA PUO’ FARE DERIV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822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Baskerville Old Face"/>
              </a:rPr>
              <a:t>Analisi matemati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Baskerville Old Face"/>
              </a:rPr>
              <a:t>  </a:t>
            </a:r>
            <a:r>
              <a:rPr b="0" lang="it-IT" sz="2400" spc="-1" strike="noStrike">
                <a:solidFill>
                  <a:srgbClr val="ff6600"/>
                </a:solidFill>
                <a:latin typeface="Baskerville Old Face"/>
              </a:rPr>
              <a:t>- Limiti, Deri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Baskerville Old Face"/>
              </a:rPr>
              <a:t>  </a:t>
            </a:r>
            <a:r>
              <a:rPr b="0" lang="it-IT" sz="2400" spc="-1" strike="noStrike">
                <a:solidFill>
                  <a:srgbClr val="ff6600"/>
                </a:solidFill>
                <a:latin typeface="Baskerville Old Face"/>
              </a:rPr>
              <a:t>- Integrali indefiniti e defini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Baskerville Old Face"/>
              </a:rPr>
              <a:t>Semplificazione di espressioni: numeriche, letterali, trigonometriche, con i numeri comples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Baskerville Old Face"/>
              </a:rPr>
              <a:t>Risoluzione di equazio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59280" y="536400"/>
            <a:ext cx="341964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6600"/>
                </a:solidFill>
                <a:latin typeface="Baskerville Old Face"/>
              </a:rPr>
              <a:t>Tavole di verità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6600"/>
                </a:solidFill>
                <a:latin typeface="Baskerville Old Face"/>
              </a:rPr>
              <a:t>Operazioni con i vettori, prodotto scalare e vettori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6600"/>
                </a:solidFill>
                <a:latin typeface="Baskerville Old Face"/>
              </a:rPr>
              <a:t>Calcolo matrici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6600"/>
                </a:solidFill>
                <a:latin typeface="Baskerville Old Face"/>
              </a:rPr>
              <a:t>Sistemi linear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6600"/>
                </a:solidFill>
                <a:latin typeface="Baskerville Old Face"/>
              </a:rPr>
              <a:t>Grafici di funzion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io di funzione con Derive 5                            di Stefania Mannara (SICSI VI CICLO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5B9D-8E15-4318-A4CC-74A18E192A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579C9-7BB8-4B5D-AC93-6EDCA5FD0477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582120"/>
            <a:ext cx="81532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cc"/>
                </a:solidFill>
                <a:latin typeface="Baskerville Old Face"/>
              </a:rPr>
              <a:t>Come si entra in Der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74640" y="1239480"/>
            <a:ext cx="78264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6600"/>
                </a:solidFill>
                <a:latin typeface="Brush Script MT"/>
              </a:rPr>
              <a:t>È </a:t>
            </a:r>
            <a:r>
              <a:rPr b="0" lang="it-IT" sz="2800" spc="-1" strike="noStrike">
                <a:solidFill>
                  <a:srgbClr val="ff6600"/>
                </a:solidFill>
                <a:latin typeface="Baskerville Old Face"/>
              </a:rPr>
              <a:t>possibile utilizzare uno dei seguenti mod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6600"/>
                </a:solidFill>
                <a:latin typeface="Baskerville Old Face"/>
              </a:rPr>
              <a:t>Utilizzare l’icona presente sul desk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6600"/>
                </a:solidFill>
                <a:latin typeface="Baskerville Old Face"/>
              </a:rPr>
              <a:t>Basta fare doppio clic sull’ico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588000" y="1557360"/>
          <a:ext cx="165600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1557360"/>
                    <a:ext cx="16560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684360" y="3645000"/>
            <a:ext cx="782640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6600"/>
                </a:solidFill>
                <a:latin typeface="Baskerville Old Face"/>
              </a:rPr>
              <a:t>Fare clic su ST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6600"/>
                </a:solidFill>
                <a:latin typeface="Baskerville Old Face"/>
              </a:rPr>
              <a:t>Selezionare PROGRAMMI – DERIVE 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io di funzione con Derive 5                            di Stefania Mannara (SICSI VI CICLO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3B4C-7A6A-4C4C-B67C-7E8AA98769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22352-2CA4-4463-B2EF-F01B7088760E}" type="datetime1">
              <a:rPr lang="en-US"/>
              <a:t>07/31/26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532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66cc"/>
                </a:solidFill>
                <a:latin typeface="Baskerville Old Face"/>
              </a:rPr>
              <a:t>La finestra di Der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826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6600"/>
                </a:solidFill>
                <a:latin typeface="Baskerville Old Face"/>
              </a:rPr>
              <a:t>DERIVE presenta gli elementi grafici standard di tutti i programmi che operano in ambiente Window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Baskerville Old Face"/>
              </a:rPr>
              <a:t>    </a:t>
            </a:r>
            <a:r>
              <a:rPr b="0" lang="it-IT" sz="2000" spc="-1" strike="noStrike">
                <a:solidFill>
                  <a:srgbClr val="ff6600"/>
                </a:solidFill>
                <a:latin typeface="Baskerville Old Face"/>
              </a:rPr>
              <a:t>Analizziamol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6600"/>
                </a:solidFill>
                <a:uFillTx/>
                <a:latin typeface="Baskerville Old Face"/>
              </a:rPr>
              <a:t>Barra del tito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6600"/>
                </a:solidFill>
                <a:uFillTx/>
                <a:latin typeface="Baskerville Old Face"/>
              </a:rPr>
              <a:t>Barra dei men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6600"/>
                </a:solidFill>
                <a:uFillTx/>
                <a:latin typeface="Baskerville Old Face"/>
              </a:rPr>
              <a:t>Barra degli strumen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6600"/>
                </a:solidFill>
                <a:uFillTx/>
                <a:latin typeface="Baskerville Old Face"/>
              </a:rPr>
              <a:t>Area di lavo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835280" y="3284640"/>
          <a:ext cx="586728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284640"/>
                    <a:ext cx="58672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908000" y="4221000"/>
          <a:ext cx="6858000" cy="32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4221000"/>
                    <a:ext cx="6858000" cy="3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564000" y="4797360"/>
          <a:ext cx="3047760" cy="118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4797360"/>
                    <a:ext cx="304776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276720" y="2276640"/>
          <a:ext cx="5257800" cy="30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2276640"/>
                    <a:ext cx="52578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io di funzione con Derive 5                            di Stefania Mannara (SICSI VI CICLO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24D2-8EE4-4A9B-B2FC-1356C5FD43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D40B5-323C-4B9E-A67D-09E7D08BE42E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586728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askerville Old Face"/>
              </a:rPr>
              <a:t>La</a:t>
            </a:r>
            <a:r>
              <a:rPr b="0" lang="it-IT" sz="3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it-IT" sz="2600" spc="-1" strike="noStrike" u="sng">
                <a:solidFill>
                  <a:srgbClr val="0066cc"/>
                </a:solidFill>
                <a:uFillTx/>
                <a:latin typeface="Baskerville Old Face"/>
              </a:rPr>
              <a:t>BARRA DEL TITOL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6600"/>
                </a:solidFill>
                <a:latin typeface="Baskerville Old Face"/>
              </a:rPr>
              <a:t>Il nome che viene assegnato alla finestra è: </a:t>
            </a:r>
            <a:r>
              <a:rPr b="0" lang="it-IT" sz="2800" spc="-1" strike="noStrike">
                <a:solidFill>
                  <a:srgbClr val="ff6600"/>
                </a:solidFill>
                <a:latin typeface="Baskerville Old Face"/>
              </a:rPr>
              <a:t>	</a:t>
            </a:r>
            <a:r>
              <a:rPr b="0" lang="it-IT" sz="2800" spc="-1" strike="noStrike">
                <a:solidFill>
                  <a:srgbClr val="ff6600"/>
                </a:solidFill>
                <a:latin typeface="Baskerville Old Face"/>
              </a:rPr>
              <a:t>	</a:t>
            </a:r>
            <a:r>
              <a:rPr b="0" lang="it-IT" sz="2800" spc="-1" strike="noStrike">
                <a:solidFill>
                  <a:srgbClr val="ff6600"/>
                </a:solidFill>
                <a:latin typeface="Baskerville Old Face"/>
              </a:rPr>
              <a:t>	</a:t>
            </a:r>
            <a:r>
              <a:rPr b="1" lang="it-IT" sz="2800" spc="-1" strike="noStrike">
                <a:solidFill>
                  <a:srgbClr val="ff6600"/>
                </a:solidFill>
                <a:latin typeface="Baskerville Old Face"/>
              </a:rPr>
              <a:t>ALGEBRA???. m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Baskerville Old Face"/>
              </a:rPr>
              <a:t>Si può operare in tre ambienti diver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66"/>
                </a:solidFill>
                <a:uFillTx/>
                <a:latin typeface="Baskerville Old Face"/>
              </a:rPr>
              <a:t>algebra</a:t>
            </a:r>
            <a:r>
              <a:rPr b="0" lang="it-IT" sz="2400" spc="-1" strike="noStrike">
                <a:solidFill>
                  <a:srgbClr val="ff0066"/>
                </a:solidFill>
                <a:latin typeface="Baskerville Old Face"/>
              </a:rPr>
              <a:t>,</a:t>
            </a:r>
            <a:r>
              <a:rPr b="0" lang="it-IT" sz="2400" spc="-1" strike="noStrike">
                <a:solidFill>
                  <a:srgbClr val="ff6600"/>
                </a:solidFill>
                <a:latin typeface="Baskerville Old Face"/>
              </a:rPr>
              <a:t> per l’esecuzione di calco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66"/>
                </a:solidFill>
                <a:uFillTx/>
                <a:latin typeface="Baskerville Old Face"/>
              </a:rPr>
              <a:t>grafici-2D</a:t>
            </a:r>
            <a:r>
              <a:rPr b="0" lang="it-IT" sz="2400" spc="-1" strike="noStrike">
                <a:solidFill>
                  <a:srgbClr val="ff0066"/>
                </a:solidFill>
                <a:latin typeface="Baskerville Old Face"/>
              </a:rPr>
              <a:t>,</a:t>
            </a:r>
            <a:r>
              <a:rPr b="0" lang="it-IT" sz="2400" spc="-1" strike="noStrike">
                <a:solidFill>
                  <a:srgbClr val="ff6600"/>
                </a:solidFill>
                <a:latin typeface="Baskerville Old Face"/>
              </a:rPr>
              <a:t> per la rappresentazione grafica a due dimensio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66"/>
                </a:solidFill>
                <a:uFillTx/>
                <a:latin typeface="Baskerville Old Face"/>
              </a:rPr>
              <a:t>grafici-3D</a:t>
            </a:r>
            <a:r>
              <a:rPr b="0" lang="it-IT" sz="2400" spc="-1" strike="noStrike">
                <a:solidFill>
                  <a:srgbClr val="ff0066"/>
                </a:solidFill>
                <a:latin typeface="Baskerville Old Face"/>
              </a:rPr>
              <a:t>,</a:t>
            </a:r>
            <a:r>
              <a:rPr b="0" lang="it-IT" sz="2400" spc="-1" strike="noStrike">
                <a:solidFill>
                  <a:srgbClr val="ff6600"/>
                </a:solidFill>
                <a:latin typeface="Baskerville Old Face"/>
              </a:rPr>
              <a:t> per la rappresentazione grafica  a  tre dimensio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158760"/>
            <a:ext cx="770904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66cc"/>
                </a:solidFill>
                <a:latin typeface="Baskerville Old Face"/>
              </a:rPr>
              <a:t>Analizziamo in dettaglio</a:t>
            </a:r>
            <a:r>
              <a:rPr b="0" lang="it-IT" sz="3200" spc="-1" strike="noStrike">
                <a:solidFill>
                  <a:srgbClr val="ffcc00"/>
                </a:solidFill>
                <a:latin typeface="Baskerville Old Fac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io di funzione con Derive 5                            di Stefania Mannara (SICSI VI CICLO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BD9-65B5-4B2B-84D4-5BA61A59C5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E8350-4F42-40C1-B5E4-33822C832FB1}" type="datetime1">
              <a:rPr lang="en-US"/>
              <a:t>07/31/26</a:t>
            </a:fld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324000" y="836640"/>
          <a:ext cx="842472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6640"/>
                    <a:ext cx="842472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03640" y="1700280"/>
            <a:ext cx="2736720" cy="388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940360" y="1700280"/>
            <a:ext cx="2879640" cy="3889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8424720" cy="476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324000" y="1700280"/>
            <a:ext cx="2849400" cy="3889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324000" y="1268280"/>
            <a:ext cx="8424720" cy="387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324000" y="5589720"/>
            <a:ext cx="8424720" cy="126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io di funzione con Derive 5                            di Stefania Mannara (SICSI VI CICLO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FCF4-D0D7-4BF5-9EF1-3D2DD885DB8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BFD2C-2571-4F63-B21D-E45F45BE4FFB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08120" y="1142640"/>
            <a:ext cx="7826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6600"/>
                </a:solidFill>
                <a:latin typeface="Baskerville Old Face"/>
              </a:rPr>
              <a:t>Le voci di menu presenti su questa barra cambiano in base all’ambiente di lavor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8280" y="533520"/>
            <a:ext cx="5423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Baskerville Old Face"/>
              </a:rPr>
              <a:t>La</a:t>
            </a:r>
            <a:r>
              <a:rPr b="0" lang="it-IT" sz="2600" spc="-1" strike="noStrike">
                <a:solidFill>
                  <a:srgbClr val="666633"/>
                </a:solidFill>
                <a:latin typeface="Baskerville Old Face"/>
              </a:rPr>
              <a:t> </a:t>
            </a:r>
            <a:r>
              <a:rPr b="0" lang="it-IT" sz="2600" spc="-1" strike="noStrike" u="sng">
                <a:solidFill>
                  <a:srgbClr val="0066cc"/>
                </a:solidFill>
                <a:uFillTx/>
                <a:latin typeface="Baskerville Old Face"/>
              </a:rPr>
              <a:t>BARRA DEI MEN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09480" y="3200400"/>
          <a:ext cx="8174160" cy="3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81741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57200" y="3657600"/>
            <a:ext cx="78264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6600"/>
                </a:solidFill>
                <a:latin typeface="Baskerville Old Face"/>
              </a:rPr>
              <a:t>per la finestra GRAFICA-2D e GRAFICA-3D divent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2362320"/>
            <a:ext cx="78264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6600"/>
                </a:solidFill>
                <a:latin typeface="Baskerville Old Face"/>
              </a:rPr>
              <a:t>per la finestra ALGEBRA la barra dei menu è la seguent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5257800"/>
            <a:ext cx="7826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ff6600"/>
                </a:solidFill>
                <a:latin typeface="Baskerville Old Face"/>
              </a:rPr>
              <a:t>N.B.</a:t>
            </a:r>
            <a:r>
              <a:rPr b="0" lang="it-IT" sz="2600" spc="-1" strike="noStrike">
                <a:solidFill>
                  <a:srgbClr val="ff6600"/>
                </a:solidFill>
                <a:latin typeface="Baskerville Old Face"/>
              </a:rPr>
              <a:t>   Anche la barra degli strumenti cambia in </a:t>
            </a:r>
            <a:r>
              <a:rPr b="0" lang="it-IT" sz="2600" spc="-1" strike="noStrike">
                <a:solidFill>
                  <a:srgbClr val="ff6600"/>
                </a:solidFill>
                <a:latin typeface="Baskerville Old Face"/>
              </a:rPr>
              <a:t>	</a:t>
            </a:r>
            <a:r>
              <a:rPr b="0" lang="it-IT" sz="2600" spc="-1" strike="noStrike">
                <a:solidFill>
                  <a:srgbClr val="ff6600"/>
                </a:solidFill>
                <a:latin typeface="Baskerville Old Face"/>
              </a:rPr>
              <a:t>relazione all’ambiente di lavor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692360" y="4292640"/>
          <a:ext cx="518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4292640"/>
                    <a:ext cx="518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io di funzione con Derive 5                            di Stefania Mannara (SICSI VI CICLO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352-8916-4224-88E7-D38066D6BE9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326B9-2F82-4A78-A1AC-CB0C846DA90D}" type="datetime1">
              <a:rPr lang="en-US"/>
              <a:t>07/31/26</a:t>
            </a:fld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STEFANIA</cp:lastModifiedBy>
  <dcterms:modified xsi:type="dcterms:W3CDTF">2006-09-25T15:19:36Z</dcterms:modified>
  <cp:revision>18</cp:revision>
  <dc:subject/>
  <dc:title>Presentazione di PowerPoint</dc:title>
</cp:coreProperties>
</file>