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F86D-1CE3-409D-A75A-E613A836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F99-1509-4654-B3AE-A85B4E1C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0EA-FCE5-406A-B8E0-A5B7A50D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E78-0BF0-4D1C-A94E-8FCCCD4C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4C6C-B547-427A-8475-5EDD926D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7D07-869A-49F9-A60D-E9A5E02C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AAA7-5B86-4BFB-ABF7-EC00F55A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518C-E74A-466D-8F54-061E0230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BB7C-0DFE-4712-85F5-C6B566C8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64E5-0C2D-43D3-9545-61DA974A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AE3E-51B2-4ECD-B229-0C12C337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C16-ECA2-4118-8C10-A0859DF4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1D3C-5AC2-4B85-9FBC-BC1AC474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67F6-AE26-4AE6-940E-CF57B0DE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35E3-5ECA-415B-8526-37F5AA06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E327-F0DF-45C4-8936-CC501E11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BB1B-3E71-4C31-9C69-3FAA4011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E47-1306-4AEA-95B9-649B5F5E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92E-B914-454D-B98A-1C18C522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B5A-DFF2-4ED0-A50A-EAC10B36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A52-0A4E-4B58-81D3-71960E82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A05-AFD1-4A7A-A1DE-35419A42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E60-076C-40C0-9ABD-063AA431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021-0777-4803-996C-C5636A1E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ED49-DD77-48A2-89FA-FC54BE95FED2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itaglia e arrotonda singolo angolo rettangol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riangolo rettango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igura a mano libera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igura a mano libera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C62D-21B9-48F9-B7A8-768F28FCB5FA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2808360" y="800280"/>
            <a:ext cx="3306600" cy="5440320"/>
          </a:xfrm>
          <a:prstGeom prst="rect">
            <a:avLst/>
          </a:prstGeom>
          <a:ln w="0">
            <a:noFill/>
          </a:ln>
        </p:spPr>
      </p:pic>
      <p:sp>
        <p:nvSpPr>
          <p:cNvPr id="96" name="CasellaDiTesto 14"/>
          <p:cNvSpPr/>
          <p:nvPr/>
        </p:nvSpPr>
        <p:spPr>
          <a:xfrm>
            <a:off x="6227640" y="5624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nstantia"/>
              </a:rPr>
              <a:t>Sviluppato 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nstantia"/>
              </a:rPr>
              <a:t>Marco Fenucci, 5 A 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onnettore 1 18"/>
          <p:cNvSpPr/>
          <p:nvPr/>
        </p:nvSpPr>
        <p:spPr>
          <a:xfrm flipV="1">
            <a:off x="3384720" y="1952640"/>
            <a:ext cx="2555640" cy="419040"/>
          </a:xfrm>
          <a:prstGeom prst="line">
            <a:avLst/>
          </a:prstGeom>
          <a:ln cap="rnd" w="349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igura a mano libera 28"/>
          <p:cNvSpPr/>
          <p:nvPr/>
        </p:nvSpPr>
        <p:spPr>
          <a:xfrm>
            <a:off x="3303720" y="2349360"/>
            <a:ext cx="90360" cy="22320"/>
          </a:xfrm>
          <a:custGeom>
            <a:avLst/>
            <a:gdLst/>
            <a:ahLst/>
            <a:rect l="l" t="t" r="r" b="b"/>
            <a:pathLst>
              <a:path w="90487" h="21431">
                <a:moveTo>
                  <a:pt x="0" y="0"/>
                </a:moveTo>
                <a:cubicBezTo>
                  <a:pt x="5556" y="794"/>
                  <a:pt x="11090" y="1761"/>
                  <a:pt x="16668" y="2381"/>
                </a:cubicBezTo>
                <a:cubicBezTo>
                  <a:pt x="25382" y="3349"/>
                  <a:pt x="34172" y="3603"/>
                  <a:pt x="42862" y="4762"/>
                </a:cubicBezTo>
                <a:cubicBezTo>
                  <a:pt x="48863" y="5562"/>
                  <a:pt x="62160" y="10401"/>
                  <a:pt x="66675" y="11906"/>
                </a:cubicBezTo>
                <a:lnTo>
                  <a:pt x="80962" y="16668"/>
                </a:lnTo>
                <a:cubicBezTo>
                  <a:pt x="89170" y="19404"/>
                  <a:pt x="86331" y="17275"/>
                  <a:pt x="90487" y="214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Connettore 1 36" descr=""/>
          <p:cNvPicPr/>
          <p:nvPr/>
        </p:nvPicPr>
        <p:blipFill>
          <a:blip r:embed="rId2"/>
          <a:stretch/>
        </p:blipFill>
        <p:spPr>
          <a:xfrm>
            <a:off x="3352680" y="2352600"/>
            <a:ext cx="2359080" cy="3876840"/>
          </a:xfrm>
          <a:prstGeom prst="rect">
            <a:avLst/>
          </a:prstGeom>
          <a:ln w="0">
            <a:noFill/>
          </a:ln>
        </p:spPr>
      </p:pic>
      <p:sp>
        <p:nvSpPr>
          <p:cNvPr id="100" name="Connettore 1 41"/>
          <p:cNvSpPr/>
          <p:nvPr/>
        </p:nvSpPr>
        <p:spPr>
          <a:xfrm flipV="1">
            <a:off x="3240000" y="2384280"/>
            <a:ext cx="144720" cy="649440"/>
          </a:xfrm>
          <a:prstGeom prst="line">
            <a:avLst/>
          </a:prstGeom>
          <a:ln cap="rnd"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Connettore 1 47"/>
          <p:cNvSpPr/>
          <p:nvPr/>
        </p:nvSpPr>
        <p:spPr>
          <a:xfrm flipH="1" flipV="1">
            <a:off x="3405960" y="2361240"/>
            <a:ext cx="371520" cy="464760"/>
          </a:xfrm>
          <a:prstGeom prst="line">
            <a:avLst/>
          </a:prstGeom>
          <a:ln cap="rnd"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Connettore 1 49"/>
          <p:cNvSpPr/>
          <p:nvPr/>
        </p:nvSpPr>
        <p:spPr>
          <a:xfrm flipV="1">
            <a:off x="3166920" y="2384280"/>
            <a:ext cx="217800" cy="144720"/>
          </a:xfrm>
          <a:prstGeom prst="line">
            <a:avLst/>
          </a:prstGeom>
          <a:ln cap="rnd"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Connettore 1 53"/>
          <p:cNvSpPr/>
          <p:nvPr/>
        </p:nvSpPr>
        <p:spPr>
          <a:xfrm flipH="1" flipV="1">
            <a:off x="3401640" y="2384280"/>
            <a:ext cx="431640" cy="936720"/>
          </a:xfrm>
          <a:prstGeom prst="line">
            <a:avLst/>
          </a:prstGeom>
          <a:ln cap="rnd" w="22320">
            <a:solidFill>
              <a:srgbClr val="e3d9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Connettore 1 55"/>
          <p:cNvSpPr/>
          <p:nvPr/>
        </p:nvSpPr>
        <p:spPr>
          <a:xfrm flipH="1" flipV="1">
            <a:off x="3393360" y="2385000"/>
            <a:ext cx="89640" cy="935280"/>
          </a:xfrm>
          <a:prstGeom prst="line">
            <a:avLst/>
          </a:prstGeom>
          <a:ln cap="rnd" w="22320">
            <a:solidFill>
              <a:srgbClr val="e3d9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Connettore 1 57"/>
          <p:cNvSpPr/>
          <p:nvPr/>
        </p:nvSpPr>
        <p:spPr>
          <a:xfrm flipH="1">
            <a:off x="3376800" y="2266920"/>
            <a:ext cx="302760" cy="108360"/>
          </a:xfrm>
          <a:prstGeom prst="line">
            <a:avLst/>
          </a:prstGeom>
          <a:ln cap="rnd" w="22320">
            <a:solidFill>
              <a:srgbClr val="e3d9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Connettore 1 59"/>
          <p:cNvSpPr/>
          <p:nvPr/>
        </p:nvSpPr>
        <p:spPr>
          <a:xfrm flipH="1" flipV="1">
            <a:off x="3384720" y="2383920"/>
            <a:ext cx="287280" cy="73080"/>
          </a:xfrm>
          <a:prstGeom prst="line">
            <a:avLst/>
          </a:prstGeom>
          <a:ln cap="rnd" w="22320">
            <a:solidFill>
              <a:srgbClr val="e3d9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Connettore 1 61"/>
          <p:cNvSpPr/>
          <p:nvPr/>
        </p:nvSpPr>
        <p:spPr>
          <a:xfrm flipH="1" flipV="1">
            <a:off x="3384360" y="2383920"/>
            <a:ext cx="215640" cy="158436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Connettore 1 65"/>
          <p:cNvSpPr/>
          <p:nvPr/>
        </p:nvSpPr>
        <p:spPr>
          <a:xfrm flipV="1">
            <a:off x="3094920" y="2384280"/>
            <a:ext cx="289080" cy="32400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onnettore 1 69"/>
          <p:cNvSpPr/>
          <p:nvPr/>
        </p:nvSpPr>
        <p:spPr>
          <a:xfrm>
            <a:off x="3402000" y="2097000"/>
            <a:ext cx="0" cy="28728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Connettore 1 73"/>
          <p:cNvSpPr/>
          <p:nvPr/>
        </p:nvSpPr>
        <p:spPr>
          <a:xfrm flipH="1">
            <a:off x="3384720" y="1870200"/>
            <a:ext cx="264960" cy="51408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Connettore 1 76"/>
          <p:cNvSpPr/>
          <p:nvPr/>
        </p:nvSpPr>
        <p:spPr>
          <a:xfrm flipH="1">
            <a:off x="3419640" y="1952640"/>
            <a:ext cx="468000" cy="3967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onnettore 1 80"/>
          <p:cNvSpPr/>
          <p:nvPr/>
        </p:nvSpPr>
        <p:spPr>
          <a:xfrm flipH="1" flipV="1">
            <a:off x="3384360" y="2383920"/>
            <a:ext cx="431640" cy="147636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Connettore 1 82"/>
          <p:cNvSpPr/>
          <p:nvPr/>
        </p:nvSpPr>
        <p:spPr>
          <a:xfrm flipH="1" flipV="1">
            <a:off x="3384720" y="2384280"/>
            <a:ext cx="1116000" cy="165744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Connettore 1 85"/>
          <p:cNvSpPr/>
          <p:nvPr/>
        </p:nvSpPr>
        <p:spPr>
          <a:xfrm flipH="1" flipV="1">
            <a:off x="3419640" y="2383920"/>
            <a:ext cx="1296720" cy="100836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Connettore 1 87"/>
          <p:cNvSpPr/>
          <p:nvPr/>
        </p:nvSpPr>
        <p:spPr>
          <a:xfrm flipH="1" flipV="1">
            <a:off x="3419640" y="2383920"/>
            <a:ext cx="1116000" cy="46836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Connettore 1 89"/>
          <p:cNvSpPr/>
          <p:nvPr/>
        </p:nvSpPr>
        <p:spPr>
          <a:xfrm flipH="1">
            <a:off x="3393720" y="2312280"/>
            <a:ext cx="1141560" cy="5868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Connettore 1 93"/>
          <p:cNvSpPr/>
          <p:nvPr/>
        </p:nvSpPr>
        <p:spPr>
          <a:xfrm flipH="1">
            <a:off x="3393720" y="873000"/>
            <a:ext cx="422280" cy="149868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Rettangolo 11" descr=""/>
          <p:cNvPicPr/>
          <p:nvPr/>
        </p:nvPicPr>
        <p:blipFill>
          <a:blip r:embed="rId3"/>
          <a:stretch/>
        </p:blipFill>
        <p:spPr>
          <a:xfrm>
            <a:off x="-182520" y="1596960"/>
            <a:ext cx="9283680" cy="15001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1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dbf5f9"/>
                </a:solidFill>
                <a:latin typeface="Calibri"/>
              </a:rPr>
              <a:t>Normalizzazione degli Indirizzi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In generale con la parola</a:t>
            </a:r>
            <a:r>
              <a:rPr b="0" i="1" lang="it-IT" sz="2600" spc="-1" strike="noStrike">
                <a:solidFill>
                  <a:srgbClr val="ffffff"/>
                </a:solidFill>
                <a:latin typeface="Constantia"/>
              </a:rPr>
              <a:t> Normalizzazione </a:t>
            </a: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si intende u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qualsiasi tipo di processo</a:t>
            </a:r>
            <a:r>
              <a:rPr b="0" i="1" lang="it-IT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che ha l’obiettivo di modifica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un oggetto, renderlo più “normale”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L’oggetto da normalizzare nel nostro caso è un indirizz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stradale, quindi occorr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Individuare la corretta DUG (Denominazione Urbanistica Generale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Individuare il numero civic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Standardizzare i toponim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sh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4"/>
          <p:cNvSpPr/>
          <p:nvPr/>
        </p:nvSpPr>
        <p:spPr>
          <a:xfrm>
            <a:off x="6227640" y="5842080"/>
            <a:ext cx="1898640" cy="93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7335c"/>
              </a:gs>
              <a:gs pos="100000">
                <a:srgbClr val="0f6fc6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9"/>
          <p:cNvSpPr/>
          <p:nvPr/>
        </p:nvSpPr>
        <p:spPr>
          <a:xfrm>
            <a:off x="6264360" y="6201360"/>
            <a:ext cx="18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Viario della citt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1332000" y="843120"/>
            <a:ext cx="2679480" cy="498240"/>
          </a:xfrm>
          <a:prstGeom prst="rect">
            <a:avLst/>
          </a:prstGeom>
          <a:ln w="0">
            <a:noFill/>
          </a:ln>
        </p:spPr>
      </p:pic>
      <p:sp>
        <p:nvSpPr>
          <p:cNvPr id="164" name="CasellaDiTesto 17"/>
          <p:cNvSpPr/>
          <p:nvPr/>
        </p:nvSpPr>
        <p:spPr>
          <a:xfrm>
            <a:off x="1116000" y="441360"/>
            <a:ext cx="31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nstantia"/>
              </a:rPr>
              <a:t>Indirizzo di residenz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Diagramma 18" descr=""/>
          <p:cNvPicPr/>
          <p:nvPr/>
        </p:nvPicPr>
        <p:blipFill>
          <a:blip r:embed="rId2"/>
          <a:stretch/>
        </p:blipFill>
        <p:spPr>
          <a:xfrm>
            <a:off x="195120" y="1731960"/>
            <a:ext cx="4956480" cy="4162320"/>
          </a:xfrm>
          <a:prstGeom prst="rect">
            <a:avLst/>
          </a:prstGeom>
          <a:ln w="0">
            <a:noFill/>
          </a:ln>
        </p:spPr>
      </p:pic>
      <p:sp>
        <p:nvSpPr>
          <p:cNvPr id="166" name="Freccia in giù 20"/>
          <p:cNvSpPr/>
          <p:nvPr/>
        </p:nvSpPr>
        <p:spPr>
          <a:xfrm>
            <a:off x="2303640" y="1413000"/>
            <a:ext cx="612720" cy="395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Freccia angolare in su 25"/>
          <p:cNvSpPr/>
          <p:nvPr/>
        </p:nvSpPr>
        <p:spPr>
          <a:xfrm rot="5400000">
            <a:off x="3829680" y="4531680"/>
            <a:ext cx="944640" cy="3635280"/>
          </a:xfrm>
          <a:custGeom>
            <a:avLst/>
            <a:gdLst>
              <a:gd name="textAreaLeft" fmla="*/ 0 w 944640"/>
              <a:gd name="textAreaRight" fmla="*/ 826560 w 944640"/>
              <a:gd name="textAreaTop" fmla="*/ 3399480 h 3635280"/>
              <a:gd name="textAreaBottom" fmla="*/ 3635640 h 3635280"/>
            </a:gdLst>
            <a:ahLst/>
            <a:rect l="textAreaLeft" t="textAreaTop" r="textAreaRight" b="textAreaBottom"/>
            <a:pathLst>
              <a:path w="944563" h="3635375">
                <a:moveTo>
                  <a:pt x="0" y="3399234"/>
                </a:moveTo>
                <a:lnTo>
                  <a:pt x="590352" y="3399234"/>
                </a:lnTo>
                <a:lnTo>
                  <a:pt x="590352" y="236141"/>
                </a:lnTo>
                <a:lnTo>
                  <a:pt x="472282" y="236141"/>
                </a:lnTo>
                <a:lnTo>
                  <a:pt x="708422" y="0"/>
                </a:lnTo>
                <a:lnTo>
                  <a:pt x="944563" y="236141"/>
                </a:lnTo>
                <a:lnTo>
                  <a:pt x="826493" y="236141"/>
                </a:lnTo>
                <a:lnTo>
                  <a:pt x="826493" y="3635375"/>
                </a:lnTo>
                <a:lnTo>
                  <a:pt x="0" y="363537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CasellaDiTesto 26"/>
          <p:cNvSpPr/>
          <p:nvPr/>
        </p:nvSpPr>
        <p:spPr>
          <a:xfrm>
            <a:off x="2951280" y="6389640"/>
            <a:ext cx="26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nstantia"/>
              </a:rPr>
              <a:t>Ricerca Corrisponden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CasellaDiTesto 27"/>
          <p:cNvSpPr/>
          <p:nvPr/>
        </p:nvSpPr>
        <p:spPr>
          <a:xfrm>
            <a:off x="5796000" y="3213000"/>
            <a:ext cx="2879640" cy="1236600"/>
          </a:xfrm>
          <a:prstGeom prst="rect">
            <a:avLst/>
          </a:prstGeom>
          <a:solidFill>
            <a:srgbClr val="0f6fc6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onstantia"/>
              </a:rPr>
              <a:t>INDIRIZZO NORMALIZZAT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3"/>
          <a:stretch/>
        </p:blipFill>
        <p:spPr>
          <a:xfrm>
            <a:off x="5724360" y="4213080"/>
            <a:ext cx="2988000" cy="476280"/>
          </a:xfrm>
          <a:prstGeom prst="rect">
            <a:avLst/>
          </a:prstGeom>
          <a:ln w="0">
            <a:noFill/>
          </a:ln>
        </p:spPr>
      </p:pic>
      <p:sp>
        <p:nvSpPr>
          <p:cNvPr id="171" name="Freccia in giù 30"/>
          <p:cNvSpPr/>
          <p:nvPr/>
        </p:nvSpPr>
        <p:spPr>
          <a:xfrm rot="10800000">
            <a:off x="6875640" y="4905000"/>
            <a:ext cx="612720" cy="68436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tolo 1" descr=""/>
          <p:cNvPicPr/>
          <p:nvPr/>
        </p:nvPicPr>
        <p:blipFill>
          <a:blip r:embed="rId1"/>
          <a:stretch/>
        </p:blipFill>
        <p:spPr>
          <a:xfrm>
            <a:off x="-6480" y="-55440"/>
            <a:ext cx="9156960" cy="774720"/>
          </a:xfrm>
          <a:prstGeom prst="rect">
            <a:avLst/>
          </a:prstGeom>
          <a:ln w="0">
            <a:noFill/>
          </a:ln>
        </p:spPr>
      </p:pic>
      <p:sp>
        <p:nvSpPr>
          <p:cNvPr id="173" name="Rettangolo arrotondato 2"/>
          <p:cNvSpPr/>
          <p:nvPr/>
        </p:nvSpPr>
        <p:spPr>
          <a:xfrm>
            <a:off x="2162160" y="1344600"/>
            <a:ext cx="828720" cy="431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niz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Dati 3"/>
          <p:cNvSpPr/>
          <p:nvPr/>
        </p:nvSpPr>
        <p:spPr>
          <a:xfrm>
            <a:off x="1765440" y="1957320"/>
            <a:ext cx="1368360" cy="395280"/>
          </a:xfrm>
          <a:prstGeom prst="flowChartInputOutput">
            <a:avLst/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Calibri"/>
              </a:rPr>
              <a:t>Leggi 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Dati 4"/>
          <p:cNvSpPr/>
          <p:nvPr/>
        </p:nvSpPr>
        <p:spPr>
          <a:xfrm>
            <a:off x="1622520" y="2568600"/>
            <a:ext cx="1368360" cy="396720"/>
          </a:xfrm>
          <a:prstGeom prst="flowChartInputOutput">
            <a:avLst/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Constantia"/>
              </a:rPr>
              <a:t>Leggi B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ttangolo 5"/>
          <p:cNvSpPr/>
          <p:nvPr/>
        </p:nvSpPr>
        <p:spPr>
          <a:xfrm>
            <a:off x="1406520" y="3144960"/>
            <a:ext cx="1800360" cy="647640"/>
          </a:xfrm>
          <a:prstGeom prst="rect">
            <a:avLst/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M=nChar(A,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Immagine 94" descr="Frame 0.png"/>
          <p:cNvPicPr/>
          <p:nvPr/>
        </p:nvPicPr>
        <p:blipFill>
          <a:blip r:embed="rId2"/>
          <a:stretch/>
        </p:blipFill>
        <p:spPr>
          <a:xfrm>
            <a:off x="434880" y="4332240"/>
            <a:ext cx="3780000" cy="781200"/>
          </a:xfrm>
          <a:prstGeom prst="rect">
            <a:avLst/>
          </a:prstGeom>
          <a:ln w="0">
            <a:noFill/>
          </a:ln>
        </p:spPr>
      </p:pic>
      <p:sp>
        <p:nvSpPr>
          <p:cNvPr id="178" name="Rettangolo arrotondato 7"/>
          <p:cNvSpPr/>
          <p:nvPr/>
        </p:nvSpPr>
        <p:spPr>
          <a:xfrm>
            <a:off x="1909800" y="5448240"/>
            <a:ext cx="828720" cy="4334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F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ttangolo arrotondato 8"/>
          <p:cNvSpPr/>
          <p:nvPr/>
        </p:nvSpPr>
        <p:spPr>
          <a:xfrm>
            <a:off x="5645160" y="858960"/>
            <a:ext cx="1332000" cy="395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nChar(A,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Elaborazione 9"/>
          <p:cNvSpPr/>
          <p:nvPr/>
        </p:nvSpPr>
        <p:spPr>
          <a:xfrm>
            <a:off x="5991120" y="1463760"/>
            <a:ext cx="649440" cy="28728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N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Decisione 10"/>
          <p:cNvSpPr/>
          <p:nvPr/>
        </p:nvSpPr>
        <p:spPr>
          <a:xfrm>
            <a:off x="5870520" y="1996920"/>
            <a:ext cx="900000" cy="792360"/>
          </a:xfrm>
          <a:prstGeom prst="flowChartDecision">
            <a:avLst/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alibri"/>
              </a:rPr>
              <a:t>A=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Elaborazione 11"/>
          <p:cNvSpPr/>
          <p:nvPr/>
        </p:nvSpPr>
        <p:spPr>
          <a:xfrm>
            <a:off x="7580160" y="2152800"/>
            <a:ext cx="935280" cy="46800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Calibri"/>
              </a:rPr>
              <a:t>N=Len(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ttangolo arrotondato 13"/>
          <p:cNvSpPr/>
          <p:nvPr/>
        </p:nvSpPr>
        <p:spPr>
          <a:xfrm>
            <a:off x="7470720" y="3075120"/>
            <a:ext cx="1154160" cy="6238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itorna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Elaborazione 14"/>
          <p:cNvSpPr/>
          <p:nvPr/>
        </p:nvSpPr>
        <p:spPr>
          <a:xfrm>
            <a:off x="4668840" y="2955960"/>
            <a:ext cx="1692360" cy="57636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Calibri"/>
              </a:rPr>
              <a:t>Cerca sottostringa massima (Max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Elaborazione 18"/>
          <p:cNvSpPr/>
          <p:nvPr/>
        </p:nvSpPr>
        <p:spPr>
          <a:xfrm>
            <a:off x="6332400" y="4621320"/>
            <a:ext cx="2413080" cy="43164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Calibri"/>
              </a:rPr>
              <a:t>N=Len(Max)+nChar(Asx, Bsx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Elaborazione 19"/>
          <p:cNvSpPr/>
          <p:nvPr/>
        </p:nvSpPr>
        <p:spPr>
          <a:xfrm>
            <a:off x="6340320" y="5361120"/>
            <a:ext cx="2411640" cy="431640"/>
          </a:xfrm>
          <a:prstGeom prst="flowChartProcess">
            <a:avLst/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Calibri"/>
              </a:rPr>
              <a:t>N=N+nChar(Adx, Bdx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Decisione 20"/>
          <p:cNvSpPr/>
          <p:nvPr/>
        </p:nvSpPr>
        <p:spPr>
          <a:xfrm>
            <a:off x="4946760" y="3787920"/>
            <a:ext cx="1152360" cy="973080"/>
          </a:xfrm>
          <a:prstGeom prst="flowChartDecision">
            <a:avLst/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CasellaDiTesto 21"/>
          <p:cNvSpPr/>
          <p:nvPr/>
        </p:nvSpPr>
        <p:spPr>
          <a:xfrm>
            <a:off x="5036760" y="4078440"/>
            <a:ext cx="990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Len(Max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&gt; 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ttangolo arrotondato 22"/>
          <p:cNvSpPr/>
          <p:nvPr/>
        </p:nvSpPr>
        <p:spPr>
          <a:xfrm>
            <a:off x="5051520" y="6111720"/>
            <a:ext cx="993600" cy="5684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itorna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0" name="Connettore 2 24"/>
          <p:cNvCxnSpPr>
            <a:stCxn id="173" idx="2"/>
            <a:endCxn id="174" idx="0"/>
          </p:cNvCxnSpPr>
          <p:nvPr/>
        </p:nvCxnSpPr>
        <p:spPr>
          <a:xfrm>
            <a:off x="2575440" y="1775880"/>
            <a:ext cx="11880" cy="18180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1" name="Connettore 2 26"/>
          <p:cNvCxnSpPr>
            <a:stCxn id="174" idx="4"/>
            <a:endCxn id="175" idx="0"/>
          </p:cNvCxnSpPr>
          <p:nvPr/>
        </p:nvCxnSpPr>
        <p:spPr>
          <a:xfrm flipH="1">
            <a:off x="2442600" y="2352600"/>
            <a:ext cx="6840" cy="21672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2" name="Connettore 2 29"/>
          <p:cNvCxnSpPr>
            <a:stCxn id="175" idx="4"/>
            <a:endCxn id="176" idx="0"/>
          </p:cNvCxnSpPr>
          <p:nvPr/>
        </p:nvCxnSpPr>
        <p:spPr>
          <a:xfrm flipH="1">
            <a:off x="2304720" y="2964960"/>
            <a:ext cx="2160" cy="18036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3" name="Connettore 2 33"/>
          <p:cNvCxnSpPr>
            <a:stCxn id="176" idx="2"/>
          </p:cNvCxnSpPr>
          <p:nvPr/>
        </p:nvCxnSpPr>
        <p:spPr>
          <a:xfrm>
            <a:off x="2305440" y="3792240"/>
            <a:ext cx="18360" cy="54036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4" name="Connettore 2 35"/>
          <p:cNvCxnSpPr>
            <a:endCxn id="178" idx="0"/>
          </p:cNvCxnSpPr>
          <p:nvPr/>
        </p:nvCxnSpPr>
        <p:spPr>
          <a:xfrm flipH="1">
            <a:off x="2323440" y="5113440"/>
            <a:ext cx="1080" cy="33552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5" name="Connettore 2 51"/>
          <p:cNvCxnSpPr>
            <a:stCxn id="179" idx="2"/>
            <a:endCxn id="180" idx="0"/>
          </p:cNvCxnSpPr>
          <p:nvPr/>
        </p:nvCxnSpPr>
        <p:spPr>
          <a:xfrm>
            <a:off x="6310800" y="1254240"/>
            <a:ext cx="5400" cy="2102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6" name="Connettore 2 53"/>
          <p:cNvCxnSpPr>
            <a:stCxn id="180" idx="2"/>
            <a:endCxn id="181" idx="0"/>
          </p:cNvCxnSpPr>
          <p:nvPr/>
        </p:nvCxnSpPr>
        <p:spPr>
          <a:xfrm>
            <a:off x="6316560" y="1750680"/>
            <a:ext cx="5760" cy="24660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7" name="Connettore 2 55"/>
          <p:cNvCxnSpPr>
            <a:stCxn id="181" idx="3"/>
            <a:endCxn id="182" idx="1"/>
          </p:cNvCxnSpPr>
          <p:nvPr/>
        </p:nvCxnSpPr>
        <p:spPr>
          <a:xfrm flipV="1">
            <a:off x="6770160" y="2387160"/>
            <a:ext cx="810360" cy="720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8" name="Connettore 2 57"/>
          <p:cNvCxnSpPr>
            <a:stCxn id="182" idx="2"/>
            <a:endCxn id="183" idx="0"/>
          </p:cNvCxnSpPr>
          <p:nvPr/>
        </p:nvCxnSpPr>
        <p:spPr>
          <a:xfrm flipH="1">
            <a:off x="8046360" y="2620800"/>
            <a:ext cx="1080" cy="4550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9" name="Forma 59"/>
          <p:cNvCxnSpPr>
            <a:stCxn id="181" idx="1"/>
            <a:endCxn id="184" idx="0"/>
          </p:cNvCxnSpPr>
          <p:nvPr/>
        </p:nvCxnSpPr>
        <p:spPr>
          <a:xfrm flipV="1" rot="10800000">
            <a:off x="5514120" y="2392920"/>
            <a:ext cx="356400" cy="562680"/>
          </a:xfrm>
          <a:prstGeom prst="bentConnector2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0" name="Connettore 2 61"/>
          <p:cNvCxnSpPr>
            <a:stCxn id="184" idx="2"/>
            <a:endCxn id="187" idx="0"/>
          </p:cNvCxnSpPr>
          <p:nvPr/>
        </p:nvCxnSpPr>
        <p:spPr>
          <a:xfrm>
            <a:off x="5514840" y="3532320"/>
            <a:ext cx="8640" cy="25596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1" name="Forma 63"/>
          <p:cNvCxnSpPr>
            <a:stCxn id="187" idx="3"/>
            <a:endCxn id="185" idx="0"/>
          </p:cNvCxnSpPr>
          <p:nvPr/>
        </p:nvCxnSpPr>
        <p:spPr>
          <a:xfrm>
            <a:off x="6099120" y="4273560"/>
            <a:ext cx="1440360" cy="348480"/>
          </a:xfrm>
          <a:prstGeom prst="bentConnector2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2" name="Connettore 2 65"/>
          <p:cNvCxnSpPr>
            <a:stCxn id="185" idx="2"/>
            <a:endCxn id="186" idx="0"/>
          </p:cNvCxnSpPr>
          <p:nvPr/>
        </p:nvCxnSpPr>
        <p:spPr>
          <a:xfrm>
            <a:off x="7538040" y="5052960"/>
            <a:ext cx="6840" cy="3088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3" name="Connettore 4 67"/>
          <p:cNvCxnSpPr>
            <a:stCxn id="186" idx="2"/>
            <a:endCxn id="189" idx="0"/>
          </p:cNvCxnSpPr>
          <p:nvPr/>
        </p:nvCxnSpPr>
        <p:spPr>
          <a:xfrm rot="5400000">
            <a:off x="6386400" y="4953600"/>
            <a:ext cx="319680" cy="1997640"/>
          </a:xfrm>
          <a:prstGeom prst="bentConnector3">
            <a:avLst>
              <a:gd name="adj1" fmla="val 49943"/>
            </a:avLst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4" name="Forma 71"/>
          <p:cNvCxnSpPr>
            <a:stCxn id="187" idx="1"/>
            <a:endCxn id="189" idx="0"/>
          </p:cNvCxnSpPr>
          <p:nvPr/>
        </p:nvCxnSpPr>
        <p:spPr>
          <a:xfrm flipH="1" flipV="1" rot="10800000">
            <a:off x="4945680" y="4273200"/>
            <a:ext cx="602280" cy="1838880"/>
          </a:xfrm>
          <a:prstGeom prst="bentConnector4">
            <a:avLst>
              <a:gd name="adj1" fmla="val -37978"/>
              <a:gd name="adj2" fmla="val 63207"/>
            </a:avLst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05" name="CasellaDiTesto 72"/>
          <p:cNvSpPr/>
          <p:nvPr/>
        </p:nvSpPr>
        <p:spPr>
          <a:xfrm>
            <a:off x="6156720" y="38768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CasellaDiTesto 73"/>
          <p:cNvSpPr/>
          <p:nvPr/>
        </p:nvSpPr>
        <p:spPr>
          <a:xfrm>
            <a:off x="4629240" y="38624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CasellaDiTesto 74"/>
          <p:cNvSpPr/>
          <p:nvPr/>
        </p:nvSpPr>
        <p:spPr>
          <a:xfrm>
            <a:off x="6839640" y="19652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CasellaDiTesto 37"/>
          <p:cNvSpPr/>
          <p:nvPr/>
        </p:nvSpPr>
        <p:spPr>
          <a:xfrm>
            <a:off x="5504040" y="19922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olo 1" descr=""/>
          <p:cNvPicPr/>
          <p:nvPr/>
        </p:nvPicPr>
        <p:blipFill>
          <a:blip r:embed="rId1"/>
          <a:stretch/>
        </p:blipFill>
        <p:spPr>
          <a:xfrm>
            <a:off x="317520" y="85680"/>
            <a:ext cx="8319960" cy="835200"/>
          </a:xfrm>
          <a:prstGeom prst="rect">
            <a:avLst/>
          </a:prstGeom>
          <a:ln w="0">
            <a:noFill/>
          </a:ln>
        </p:spPr>
      </p:pic>
      <p:sp>
        <p:nvSpPr>
          <p:cNvPr id="210" name="CasellaDiTesto 5"/>
          <p:cNvSpPr/>
          <p:nvPr/>
        </p:nvSpPr>
        <p:spPr>
          <a:xfrm>
            <a:off x="934920" y="1052640"/>
            <a:ext cx="2124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nstantia"/>
              </a:rPr>
              <a:t>Zone IST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5616720" y="1160640"/>
            <a:ext cx="2562120" cy="4105080"/>
          </a:xfrm>
          <a:prstGeom prst="rect">
            <a:avLst/>
          </a:prstGeom>
          <a:ln w="0">
            <a:noFill/>
          </a:ln>
        </p:spPr>
      </p:pic>
      <p:sp>
        <p:nvSpPr>
          <p:cNvPr id="212" name="Freccia a destra 7"/>
          <p:cNvSpPr/>
          <p:nvPr/>
        </p:nvSpPr>
        <p:spPr>
          <a:xfrm>
            <a:off x="3743280" y="2205000"/>
            <a:ext cx="1513080" cy="133200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0f6fc6"/>
              </a:gs>
              <a:gs pos="100000">
                <a:srgbClr val="ffebfa"/>
              </a:gs>
            </a:gsLst>
            <a:lin ang="27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3"/>
          <a:stretch/>
        </p:blipFill>
        <p:spPr>
          <a:xfrm>
            <a:off x="934920" y="1449360"/>
            <a:ext cx="2160720" cy="3826080"/>
          </a:xfrm>
          <a:prstGeom prst="rect">
            <a:avLst/>
          </a:prstGeom>
          <a:ln w="0">
            <a:noFill/>
          </a:ln>
        </p:spPr>
      </p:pic>
      <p:sp>
        <p:nvSpPr>
          <p:cNvPr id="214" name="CasellaDiTesto 10"/>
          <p:cNvSpPr/>
          <p:nvPr/>
        </p:nvSpPr>
        <p:spPr>
          <a:xfrm>
            <a:off x="1511280" y="5516640"/>
            <a:ext cx="61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nstantia"/>
              </a:rPr>
              <a:t>Le zone ISTAT e le zone di traffico sono i due livelli di zonizzazione del territorio urban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nstantia"/>
              </a:rPr>
              <a:t>Le macrozone rappresentano invece zone estern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dbf5f9"/>
                </a:solidFill>
                <a:latin typeface="Calibri"/>
              </a:rPr>
              <a:t>Creazione matrice O/D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31640" y="1375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Nella matrice Origine/Destinazione ogni riga indica i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nodo di partenza, il nodo di arrivo e gli spostamenti ch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avvengono su quel tratto. Essa è fondamentale per l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creazione delle Linee di Desideri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Per crearla si de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Creare una tabella contenente il numero degli studenti per ogni zona IST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Mettere in relazione ogni zona di traffico con le rispettive zone ISTAT, sommando il numero di studenti provenienti da queste ulti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1640" y="2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dbf5f9"/>
                </a:solidFill>
                <a:latin typeface="Calibri"/>
              </a:rPr>
              <a:t>Rappresentazione grafica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58920" y="1521000"/>
            <a:ext cx="3060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nstantia"/>
              </a:rPr>
              <a:t>Sistema Informativo Geograf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1" lang="it-IT" sz="1400" spc="-1" strike="noStrike">
                <a:solidFill>
                  <a:srgbClr val="ffffff"/>
                </a:solidFill>
                <a:latin typeface="Constantia"/>
              </a:rPr>
              <a:t>Geographic Information System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nstantia"/>
              </a:rPr>
              <a:t>Strumento tecnologico/software pe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nstantia"/>
              </a:rPr>
              <a:t>trattare in forma automat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nstantia"/>
              </a:rPr>
              <a:t>informazioni spaziali relative 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nstantia"/>
              </a:rPr>
              <a:t>entità mappate sul territori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CasellaDiTesto 9"/>
          <p:cNvSpPr/>
          <p:nvPr/>
        </p:nvSpPr>
        <p:spPr>
          <a:xfrm>
            <a:off x="431640" y="5192640"/>
            <a:ext cx="820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nstantia"/>
              </a:rPr>
              <a:t>I GIS rappresentano un‘innovazione fondamentale nella gestione e nella produzione cartografic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nstantia"/>
              </a:rPr>
              <a:t>Derivano dalla fusione di due tecnologie informatich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Constantia"/>
              </a:rPr>
              <a:t>CAD</a:t>
            </a:r>
            <a:r>
              <a:rPr b="0" lang="it-IT" sz="18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1" lang="it-IT" sz="1800" spc="-1" strike="noStrike">
                <a:solidFill>
                  <a:srgbClr val="ffffff"/>
                </a:solidFill>
                <a:latin typeface="Constantia"/>
              </a:rPr>
              <a:t>Computer Aided Design</a:t>
            </a:r>
            <a:r>
              <a:rPr b="0" lang="it-IT" sz="18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1" lang="it-IT" sz="1800" spc="-1" strike="noStrike">
                <a:solidFill>
                  <a:srgbClr val="ffffff"/>
                </a:solidFill>
                <a:latin typeface="Constantia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Constantia"/>
              </a:rPr>
              <a:t> sistemi di disegno computerizz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Constantia"/>
              </a:rPr>
              <a:t>DBMS</a:t>
            </a:r>
            <a:r>
              <a:rPr b="0" lang="it-IT" sz="18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1" lang="it-IT" sz="1800" spc="-1" strike="noStrike">
                <a:solidFill>
                  <a:srgbClr val="ffffff"/>
                </a:solidFill>
                <a:latin typeface="Constantia"/>
              </a:rPr>
              <a:t>Data Base Management System):</a:t>
            </a:r>
            <a:r>
              <a:rPr b="0" lang="it-IT" sz="1800" spc="-1" strike="noStrike">
                <a:solidFill>
                  <a:srgbClr val="ffffff"/>
                </a:solidFill>
                <a:latin typeface="Constantia"/>
              </a:rPr>
              <a:t> sistemi di database relazion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0" descr="gis3"/>
          <p:cNvPicPr/>
          <p:nvPr/>
        </p:nvPicPr>
        <p:blipFill>
          <a:blip r:embed="rId1"/>
          <a:stretch/>
        </p:blipFill>
        <p:spPr>
          <a:xfrm>
            <a:off x="3492360" y="1413000"/>
            <a:ext cx="5618160" cy="370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push dir="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5" descr=""/>
          <p:cNvPicPr/>
          <p:nvPr/>
        </p:nvPicPr>
        <p:blipFill>
          <a:blip r:embed="rId1"/>
          <a:stretch/>
        </p:blipFill>
        <p:spPr>
          <a:xfrm>
            <a:off x="68400" y="966960"/>
            <a:ext cx="8912160" cy="5778360"/>
          </a:xfrm>
          <a:prstGeom prst="rect">
            <a:avLst/>
          </a:prstGeom>
          <a:ln w="0">
            <a:noFill/>
          </a:ln>
        </p:spPr>
      </p:pic>
      <p:pic>
        <p:nvPicPr>
          <p:cNvPr id="222" name="Titolo 3" descr=""/>
          <p:cNvPicPr/>
          <p:nvPr/>
        </p:nvPicPr>
        <p:blipFill>
          <a:blip r:embed="rId2"/>
          <a:stretch/>
        </p:blipFill>
        <p:spPr>
          <a:xfrm>
            <a:off x="476280" y="42840"/>
            <a:ext cx="8313840" cy="847800"/>
          </a:xfrm>
          <a:prstGeom prst="rect">
            <a:avLst/>
          </a:prstGeom>
          <a:ln w="0">
            <a:noFill/>
          </a:ln>
        </p:spPr>
      </p:pic>
      <p:sp>
        <p:nvSpPr>
          <p:cNvPr id="223" name="CasellaDiTesto 5"/>
          <p:cNvSpPr/>
          <p:nvPr/>
        </p:nvSpPr>
        <p:spPr>
          <a:xfrm>
            <a:off x="298440" y="6297480"/>
            <a:ext cx="1332000" cy="322200"/>
          </a:xfrm>
          <a:prstGeom prst="rect">
            <a:avLst/>
          </a:prstGeom>
          <a:solidFill>
            <a:srgbClr val="0f6fc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Constantia"/>
              </a:rPr>
              <a:t>Layer Tem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4" name="Connettore 2 11"/>
          <p:cNvCxnSpPr>
            <a:stCxn id="223" idx="0"/>
          </p:cNvCxnSpPr>
          <p:nvPr/>
        </p:nvCxnSpPr>
        <p:spPr>
          <a:xfrm flipH="1" flipV="1">
            <a:off x="801360" y="5757120"/>
            <a:ext cx="162720" cy="5403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25" name="CasellaDiTesto 14"/>
          <p:cNvSpPr/>
          <p:nvPr/>
        </p:nvSpPr>
        <p:spPr>
          <a:xfrm>
            <a:off x="6361200" y="1020600"/>
            <a:ext cx="1476360" cy="550440"/>
          </a:xfrm>
          <a:prstGeom prst="rect">
            <a:avLst/>
          </a:prstGeom>
          <a:solidFill>
            <a:srgbClr val="0f6fc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Constantia"/>
              </a:rPr>
              <a:t>Barra dei Menù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6" name="Connettore 2 16"/>
          <p:cNvCxnSpPr>
            <a:stCxn id="225" idx="1"/>
          </p:cNvCxnSpPr>
          <p:nvPr/>
        </p:nvCxnSpPr>
        <p:spPr>
          <a:xfrm flipH="1" flipV="1">
            <a:off x="4666680" y="1077120"/>
            <a:ext cx="1694520" cy="1054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27" name="CasellaDiTesto 17"/>
          <p:cNvSpPr/>
          <p:nvPr/>
        </p:nvSpPr>
        <p:spPr>
          <a:xfrm>
            <a:off x="7318440" y="1749600"/>
            <a:ext cx="1332000" cy="550440"/>
          </a:xfrm>
          <a:prstGeom prst="rect">
            <a:avLst/>
          </a:prstGeom>
          <a:solidFill>
            <a:srgbClr val="0f6fc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Constantia"/>
              </a:rPr>
              <a:t>Barra Botton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Connettore 2 19"/>
          <p:cNvCxnSpPr>
            <a:stCxn id="227" idx="1"/>
          </p:cNvCxnSpPr>
          <p:nvPr/>
        </p:nvCxnSpPr>
        <p:spPr>
          <a:xfrm flipH="1" flipV="1">
            <a:off x="6044400" y="1391760"/>
            <a:ext cx="1274040" cy="5198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29" name="CasellaDiTesto 20"/>
          <p:cNvSpPr/>
          <p:nvPr/>
        </p:nvSpPr>
        <p:spPr>
          <a:xfrm>
            <a:off x="6012000" y="2276640"/>
            <a:ext cx="1331640" cy="322200"/>
          </a:xfrm>
          <a:prstGeom prst="rect">
            <a:avLst/>
          </a:prstGeom>
          <a:solidFill>
            <a:srgbClr val="0f6fc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Constantia"/>
              </a:rPr>
              <a:t>Barra Tool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0" name="Connettore 2 22"/>
          <p:cNvCxnSpPr>
            <a:stCxn id="229" idx="1"/>
          </p:cNvCxnSpPr>
          <p:nvPr/>
        </p:nvCxnSpPr>
        <p:spPr>
          <a:xfrm flipH="1" flipV="1">
            <a:off x="3615480" y="1650240"/>
            <a:ext cx="2396520" cy="7880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31" name="CasellaDiTesto 23"/>
          <p:cNvSpPr/>
          <p:nvPr/>
        </p:nvSpPr>
        <p:spPr>
          <a:xfrm>
            <a:off x="2232000" y="6453360"/>
            <a:ext cx="2700360" cy="322200"/>
          </a:xfrm>
          <a:prstGeom prst="rect">
            <a:avLst/>
          </a:prstGeom>
          <a:solidFill>
            <a:srgbClr val="0f6fc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Constantia"/>
              </a:rPr>
              <a:t>View (Coord. Gauss-Boag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2" name="Connettore 2 27"/>
          <p:cNvCxnSpPr>
            <a:stCxn id="231" idx="0"/>
          </p:cNvCxnSpPr>
          <p:nvPr/>
        </p:nvCxnSpPr>
        <p:spPr>
          <a:xfrm flipV="1">
            <a:off x="3580200" y="5805360"/>
            <a:ext cx="955080" cy="6483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33" name="CasellaDiTesto 28"/>
          <p:cNvSpPr/>
          <p:nvPr/>
        </p:nvSpPr>
        <p:spPr>
          <a:xfrm>
            <a:off x="5148360" y="5950080"/>
            <a:ext cx="3887640" cy="778680"/>
          </a:xfrm>
          <a:prstGeom prst="rect">
            <a:avLst/>
          </a:prstGeom>
          <a:solidFill>
            <a:srgbClr val="0f6fc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Constantia"/>
              </a:rPr>
              <a:t>I layer e le varie barre dell’interfaccia sono dinamiche ed opportunamente sviluppabili con il linguaggio Avenue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dbf5f9"/>
                </a:solidFill>
                <a:latin typeface="Calibri"/>
              </a:rPr>
              <a:t>Funzionalità GIS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35" name="Segnaposto contenuto 3" descr=""/>
          <p:cNvPicPr/>
          <p:nvPr/>
        </p:nvPicPr>
        <p:blipFill>
          <a:blip r:embed="rId1"/>
          <a:stretch/>
        </p:blipFill>
        <p:spPr>
          <a:xfrm>
            <a:off x="281160" y="1335240"/>
            <a:ext cx="8697600" cy="53514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olo 1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371080" cy="873360"/>
          </a:xfrm>
          <a:prstGeom prst="rect">
            <a:avLst/>
          </a:prstGeom>
          <a:ln w="0">
            <a:noFill/>
          </a:ln>
        </p:spPr>
      </p:pic>
      <p:sp>
        <p:nvSpPr>
          <p:cNvPr id="237" name="CasellaDiTesto 3"/>
          <p:cNvSpPr/>
          <p:nvPr/>
        </p:nvSpPr>
        <p:spPr>
          <a:xfrm>
            <a:off x="287280" y="101592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nstantia"/>
              </a:rPr>
              <a:t>Per la creazione delle linee di desiderio è stato scritto un apposito script in Avenue: per ogni record della matrice O/D si disegna una linea  (di diverso colore e spessore in base al numero di spostamenti)che va dal nodo di partenza (il centroide della zona di traffico) al nodo destinazione (l’ITIS G.Galilei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58920" y="2168640"/>
          <a:ext cx="3456000" cy="4627440"/>
        </p:xfrm>
        <a:graphic>
          <a:graphicData uri="http://schemas.openxmlformats.org/drawingml/2006/table">
            <a:tbl>
              <a:tblPr/>
              <a:tblGrid>
                <a:gridCol w="1280880"/>
                <a:gridCol w="1025640"/>
                <a:gridCol w="1149480"/>
              </a:tblGrid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Id_NodoFro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Id_NodoT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postament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2600"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37440" rIns="374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pic>
        <p:nvPicPr>
          <p:cNvPr id="239" name="Picture 2" descr="C:\Users\Marco\Desktop\Progetto\Immagini e file\LinDes2.png"/>
          <p:cNvPicPr/>
          <p:nvPr/>
        </p:nvPicPr>
        <p:blipFill>
          <a:blip r:embed="rId2"/>
          <a:stretch/>
        </p:blipFill>
        <p:spPr>
          <a:xfrm>
            <a:off x="5508720" y="2349360"/>
            <a:ext cx="2962080" cy="4181760"/>
          </a:xfrm>
          <a:prstGeom prst="rect">
            <a:avLst/>
          </a:prstGeom>
          <a:ln w="0">
            <a:noFill/>
          </a:ln>
        </p:spPr>
      </p:pic>
      <p:sp>
        <p:nvSpPr>
          <p:cNvPr id="240" name="Freccia a destra 9"/>
          <p:cNvSpPr/>
          <p:nvPr/>
        </p:nvSpPr>
        <p:spPr>
          <a:xfrm>
            <a:off x="4176720" y="4041720"/>
            <a:ext cx="1079640" cy="7192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1600" y="18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dbf5f9"/>
                </a:solidFill>
                <a:latin typeface="Calibri"/>
              </a:rPr>
              <a:t>Conclusioni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76040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E’ stata definita una metodologia per la creazione di un sistema informativo, di tipo DSS, per l’analisi dell’offerta della mobilità relativa agli studenti delle scuole superiori, affrontando ogni singola problematica e risolvendole con l’ausilio di strumenti software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L’analisi dei dati ottenuti è secondaria nello scopo del lavoro, e deve essere effettuata da persone specializzat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Il sistema è stato sviluppato in modo da poter accogliere possibili sviluppi futur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dbf5f9"/>
                </a:solidFill>
                <a:latin typeface="Calibri"/>
              </a:rPr>
              <a:t>Che cosa sono le Linee di Desiderio?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Una linea di desiderio è una linea astratta relativa alla distanza in linea d’aria tra due punti di riferimento: il baricentro di una zona origine ed il baricentro di una zona destinazio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Utilizzate in un contesto territoriale definito, permettono la rappresentazione della distribuzione spaziale della domanda di mobilità di utenti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3679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dbf5f9"/>
                </a:solidFill>
                <a:latin typeface="Calibri"/>
              </a:rPr>
              <a:t>Scopo del Lavoro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640" y="19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Determinazione di una metodologia da porre in atto per creare un sistema informativo per analizzare la mobilità degli studenti del polo scolastico appartenente all’asse Via Galilei – Piazza II Giugn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Creazione di un DSS (</a:t>
            </a:r>
            <a:r>
              <a:rPr b="0" i="1" lang="it-IT" sz="2600" spc="-1" strike="noStrike">
                <a:solidFill>
                  <a:srgbClr val="ffffff"/>
                </a:solidFill>
                <a:latin typeface="Constantia"/>
              </a:rPr>
              <a:t>Decision Support System</a:t>
            </a: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), con l’ausilio di strumenti software, da mettere a disposizione alle autorità competenti, per la programmazione del servizio pubblico di mobilità urbana ed extraurbana, al fine di migliorarne la qualit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Analisi della domanda di mobilit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51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dbf5f9"/>
                </a:solidFill>
                <a:latin typeface="Calibri"/>
              </a:rPr>
              <a:t>Problematiche incontrate nello sviluppo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3164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Raccolta dei dati relativi agli studenti delle scuole di Livorno dell’asse Via Galilei – Piazza II Giugn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Normalizzazione degli indirizzi di abitazio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Zonizzazione del territori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Creazione della matrice Origine/Destinazio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Rappresentazione grafica dei dati mediante il sistema G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Creazione e analisi delle linee di desideri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dbf5f9"/>
                </a:solidFill>
                <a:latin typeface="Calibri"/>
              </a:rPr>
              <a:t>Strumenti utilizzati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nstantia"/>
              </a:rPr>
              <a:t>Ambiente GIS ESRI ArcView 3.2 (Avenue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nstantia"/>
              </a:rPr>
              <a:t>Ambiente di sviluppo Microsoft VisualBasic 6.0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nstantia"/>
              </a:rPr>
              <a:t>Ambiente di database Microsoft Acces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nstantia"/>
              </a:rPr>
              <a:t>ODBC come integratore di ambient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olo 1" descr=""/>
          <p:cNvPicPr/>
          <p:nvPr/>
        </p:nvPicPr>
        <p:blipFill>
          <a:blip r:embed="rId1"/>
          <a:stretch/>
        </p:blipFill>
        <p:spPr>
          <a:xfrm>
            <a:off x="463680" y="219240"/>
            <a:ext cx="8315280" cy="115236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24"/>
          <p:cNvSpPr/>
          <p:nvPr/>
        </p:nvSpPr>
        <p:spPr>
          <a:xfrm>
            <a:off x="719280" y="2673360"/>
            <a:ext cx="2557440" cy="1116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7335c"/>
              </a:gs>
              <a:gs pos="100000">
                <a:srgbClr val="0f6fc6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9"/>
          <p:cNvSpPr/>
          <p:nvPr/>
        </p:nvSpPr>
        <p:spPr>
          <a:xfrm>
            <a:off x="947880" y="2959560"/>
            <a:ext cx="21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Banca D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Alfanume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24"/>
          <p:cNvSpPr/>
          <p:nvPr/>
        </p:nvSpPr>
        <p:spPr>
          <a:xfrm>
            <a:off x="719280" y="4653000"/>
            <a:ext cx="2557440" cy="1116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7335c"/>
              </a:gs>
              <a:gs pos="100000">
                <a:srgbClr val="0f6fc6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9"/>
          <p:cNvSpPr/>
          <p:nvPr/>
        </p:nvSpPr>
        <p:spPr>
          <a:xfrm>
            <a:off x="971640" y="4948560"/>
            <a:ext cx="20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Banca D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Geogra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Cubo 27"/>
          <p:cNvGrpSpPr/>
          <p:nvPr/>
        </p:nvGrpSpPr>
        <p:grpSpPr>
          <a:xfrm>
            <a:off x="4718160" y="1420920"/>
            <a:ext cx="2975040" cy="950760"/>
            <a:chOff x="4718160" y="1420920"/>
            <a:chExt cx="2975040" cy="950760"/>
          </a:xfrm>
        </p:grpSpPr>
        <p:pic>
          <p:nvPicPr>
            <p:cNvPr id="133" name="Cubo 27" descr=""/>
            <p:cNvPicPr/>
            <p:nvPr/>
          </p:nvPicPr>
          <p:blipFill>
            <a:blip r:embed="rId2"/>
            <a:stretch/>
          </p:blipFill>
          <p:spPr>
            <a:xfrm>
              <a:off x="4718160" y="1420920"/>
              <a:ext cx="29750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751280" y="1654200"/>
              <a:ext cx="27115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Text Box 39"/>
          <p:cNvSpPr/>
          <p:nvPr/>
        </p:nvSpPr>
        <p:spPr>
          <a:xfrm>
            <a:off x="4830480" y="170064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Moduli interfaccia V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ccia a destra 38"/>
          <p:cNvSpPr/>
          <p:nvPr/>
        </p:nvSpPr>
        <p:spPr>
          <a:xfrm rot="19476600">
            <a:off x="3452760" y="2253960"/>
            <a:ext cx="1116000" cy="6174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CasellaDiTesto 39"/>
          <p:cNvSpPr/>
          <p:nvPr/>
        </p:nvSpPr>
        <p:spPr>
          <a:xfrm rot="19401000">
            <a:off x="3643200" y="240336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nstantia"/>
              </a:rPr>
              <a:t>D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4" descr="C:\Presentazione\GIS.bmp"/>
          <p:cNvPicPr/>
          <p:nvPr/>
        </p:nvPicPr>
        <p:blipFill>
          <a:blip r:embed="rId3"/>
          <a:stretch/>
        </p:blipFill>
        <p:spPr>
          <a:xfrm>
            <a:off x="4751280" y="3429000"/>
            <a:ext cx="3489480" cy="24066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5"/>
          <p:cNvSpPr/>
          <p:nvPr/>
        </p:nvSpPr>
        <p:spPr>
          <a:xfrm>
            <a:off x="5765760" y="4179600"/>
            <a:ext cx="1689120" cy="8557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ff6600"/>
                </a:solidFill>
                <a:latin typeface="Times New Roman"/>
              </a:rPr>
              <a:t>GI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reccia a destra 42"/>
          <p:cNvSpPr/>
          <p:nvPr/>
        </p:nvSpPr>
        <p:spPr>
          <a:xfrm rot="20203200">
            <a:off x="3406680" y="4781160"/>
            <a:ext cx="1116000" cy="5889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Freccia a destra 43"/>
          <p:cNvSpPr/>
          <p:nvPr/>
        </p:nvSpPr>
        <p:spPr>
          <a:xfrm rot="1464600">
            <a:off x="3444480" y="3328560"/>
            <a:ext cx="1116000" cy="7160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reccia in giù 45"/>
          <p:cNvSpPr/>
          <p:nvPr/>
        </p:nvSpPr>
        <p:spPr>
          <a:xfrm>
            <a:off x="5977080" y="2457360"/>
            <a:ext cx="682560" cy="90036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CasellaDiTesto 47"/>
          <p:cNvSpPr/>
          <p:nvPr/>
        </p:nvSpPr>
        <p:spPr>
          <a:xfrm rot="5400000">
            <a:off x="5950080" y="257544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nstantia"/>
              </a:rPr>
              <a:t>D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CasellaDiTesto 48"/>
          <p:cNvSpPr/>
          <p:nvPr/>
        </p:nvSpPr>
        <p:spPr>
          <a:xfrm rot="1455600">
            <a:off x="3456000" y="344628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nstantia"/>
              </a:rPr>
              <a:t>OD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dbf5f9"/>
                </a:solidFill>
                <a:latin typeface="Calibri"/>
              </a:rPr>
              <a:t>Il Database alfanumerico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65360"/>
            <a:ext cx="822960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Le informazioni contenute nella banca dati son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organizzate secondo un modello relazionale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I principali tipi di dati memorizzati son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Dati geografici e sull’uso del territori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Dati socio – economic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Dati raccolti dalle scuo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Dati sulla domanda di trasporto (matrici O/D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4100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dbf5f9"/>
                </a:solidFill>
                <a:latin typeface="Calibri"/>
              </a:rPr>
              <a:t>La struttura completa del DB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8" name="Segnaposto contenuto 3" descr="StrutturaDB.png"/>
          <p:cNvPicPr/>
          <p:nvPr/>
        </p:nvPicPr>
        <p:blipFill>
          <a:blip r:embed="rId1"/>
          <a:stretch/>
        </p:blipFill>
        <p:spPr>
          <a:xfrm>
            <a:off x="0" y="1724040"/>
            <a:ext cx="9163080" cy="42609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ttangolo 12"/>
          <p:cNvSpPr/>
          <p:nvPr/>
        </p:nvSpPr>
        <p:spPr>
          <a:xfrm>
            <a:off x="647640" y="1773360"/>
            <a:ext cx="3168720" cy="32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ttangolo 11"/>
          <p:cNvSpPr/>
          <p:nvPr/>
        </p:nvSpPr>
        <p:spPr>
          <a:xfrm>
            <a:off x="3203640" y="5265720"/>
            <a:ext cx="2305080" cy="14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dbf5f9"/>
                </a:solidFill>
                <a:latin typeface="Calibri"/>
              </a:rPr>
              <a:t>Raccolta Dati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2" name="AutoShape 24"/>
          <p:cNvSpPr/>
          <p:nvPr/>
        </p:nvSpPr>
        <p:spPr>
          <a:xfrm>
            <a:off x="3384720" y="5481720"/>
            <a:ext cx="1898640" cy="99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7335c"/>
              </a:gs>
              <a:gs pos="100000">
                <a:srgbClr val="0f6fc6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39"/>
          <p:cNvSpPr/>
          <p:nvPr/>
        </p:nvSpPr>
        <p:spPr>
          <a:xfrm>
            <a:off x="3750120" y="5735160"/>
            <a:ext cx="126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Banca D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Scolas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Immagine 5" descr=""/>
          <p:cNvPicPr/>
          <p:nvPr/>
        </p:nvPicPr>
        <p:blipFill>
          <a:blip r:embed="rId1"/>
          <a:stretch/>
        </p:blipFill>
        <p:spPr>
          <a:xfrm>
            <a:off x="5256360" y="1881360"/>
            <a:ext cx="2844720" cy="302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5" name="CasellaDiTesto 7"/>
          <p:cNvSpPr/>
          <p:nvPr/>
        </p:nvSpPr>
        <p:spPr>
          <a:xfrm>
            <a:off x="647640" y="1413000"/>
            <a:ext cx="3168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nstantia"/>
              </a:rPr>
              <a:t>Modulo Cartaceo Compilab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Immagine 9" descr=""/>
          <p:cNvPicPr/>
          <p:nvPr/>
        </p:nvPicPr>
        <p:blipFill>
          <a:blip r:embed="rId2"/>
          <a:stretch/>
        </p:blipFill>
        <p:spPr>
          <a:xfrm>
            <a:off x="738360" y="1844640"/>
            <a:ext cx="2987640" cy="31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CasellaDiTesto 10"/>
          <p:cNvSpPr/>
          <p:nvPr/>
        </p:nvSpPr>
        <p:spPr>
          <a:xfrm>
            <a:off x="5076720" y="1376280"/>
            <a:ext cx="3167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nstantia"/>
              </a:rPr>
              <a:t>Interfaccia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ttangolo 13"/>
          <p:cNvSpPr/>
          <p:nvPr/>
        </p:nvSpPr>
        <p:spPr>
          <a:xfrm>
            <a:off x="5076720" y="1736640"/>
            <a:ext cx="3167280" cy="32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13:59:32Z</dcterms:created>
  <dc:creator>Microsoft</dc:creator>
  <dc:description/>
  <dc:language>en-US</dc:language>
  <cp:lastModifiedBy>Marco</cp:lastModifiedBy>
  <dcterms:modified xsi:type="dcterms:W3CDTF">2011-06-29T15:36:03Z</dcterms:modified>
  <cp:revision>62</cp:revision>
  <dc:subject/>
  <dc:title>Diapositiva 1</dc:title>
</cp:coreProperties>
</file>